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13645-D04D-45CC-9294-5FDCC0A82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F21E9-8145-4B2A-BA3D-B2026E803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5C793-9F2D-4768-A24C-467000757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7F086-3640-4589-AEFB-F8BFF8E87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8E9A4-50F2-4C7E-80CE-02C2EAC2E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E8257-9272-41B4-8DD2-88AAABF00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2EA23-04DB-478B-A21E-FC0BF7719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0137E-6897-4196-9376-DBBC2B0EC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C17E6-CA7E-4FCF-A098-97E003AC2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7E7D7-46FA-4EFC-88B3-4E14D23D7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E09F0-CB94-4716-9ABA-38F8CFF9E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259A6-B406-498D-97D5-38F42F328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F2F43-196F-45DD-9DB1-D0E8D5A4D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737C2-AB8A-40E8-85FA-040A610D2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6BBA8-C591-4243-BA10-4993B1160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EB983-F91D-4E90-8240-841610B35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08351-3134-487C-9C95-6E2A091F1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2D078-AED7-42F5-9377-F824B95B1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41111-9487-4266-8789-EE76E95CC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3AD59-1879-4979-8096-DD2421177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44A4E-D77B-487D-982F-1DBAC429D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A083C-1EE7-49DC-B754-1C284EEE5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9F6F0-063A-4267-9BC3-F52B80B30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E3869-D764-41BA-AE0F-31BEF65BD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DEA90-673D-4F55-AF08-D66D0FAF24CC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E084D-E901-4548-9FA2-C154E518E0D4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8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The United States would not have physically entered WW2.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Internment camps would not have been legalized in America.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Japanese citizens would not have been seen as a threat, could have gone on living as they had been.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Women would not have felt empowered or needed outside the home.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The Allied Powers would not have been as strong, may have struggled to end the war.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84" name="Content Placeholder 4" descr="pearl_harbor.jpg"/>
          <p:cNvPicPr/>
          <p:nvPr/>
        </p:nvPicPr>
        <p:blipFill>
          <a:blip r:embed="rId2"/>
          <a:stretch/>
        </p:blipFill>
        <p:spPr>
          <a:xfrm>
            <a:off x="4648320" y="2057400"/>
            <a:ext cx="4038480" cy="32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9T01:22:00Z</dcterms:created>
  <dc:creator>Jonathan McClelland</dc:creator>
  <dc:description/>
  <dc:language>en-US</dc:language>
  <cp:lastModifiedBy>cechuser</cp:lastModifiedBy>
  <dcterms:modified xsi:type="dcterms:W3CDTF">2008-11-20T15:37:29Z</dcterms:modified>
  <cp:revision>11</cp:revision>
  <dc:subject/>
  <dc:title>World War II:</dc:title>
</cp:coreProperties>
</file>