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3723-D178-4A3B-B18C-07A308737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E050-86E2-4AA4-8372-925E6E35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7944-2FCF-40C7-B270-D1A3D8077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4EA2-22D6-4298-887E-D9890216F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A35F-C255-4600-B16B-638F3A41D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9A0D-36B7-452A-A3E8-1E679843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434C-CA48-4035-95AF-F507781C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104F-937F-49BA-9702-1F0FC143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281B-FE09-4807-92E1-00C6A294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AB0C-061C-40C1-BF61-8A3A33A9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4AC1-667A-4051-955A-77015D6E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AF33-8048-423B-8147-23CBE801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9689-8DB1-4132-B029-B98E955A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9C2C-438C-4DBF-95E0-086CCEDD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5D51-8D3B-44F8-A76E-63E1581B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FEDC-BCE4-46B6-B562-EC4C4F5BC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C147-1935-4CC1-BCCD-34AA9FB9E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159E-D1AB-4135-815E-76FA2B35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3BEC-4B6E-4AE1-A3E4-3221C3C2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A045-1227-46B5-8CBE-AC7EB4E8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4BF3-1C57-416A-B621-7D3553639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B7E2-8EEF-4F8E-81B5-AAB0E772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DC20-0062-4076-AB74-2ACA8C1C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976C-601D-4950-A25A-1A4D48BE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3366-F754-40CC-ADA0-4F38CF5659B9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63A8-B53C-47F7-B78F-E9D8D3740051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e United States would not have physically entered WW2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nternment camps would not have been legalized in America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Japanese citizens would not have been seen as a threat, could have gone on living as they had been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Women would not have felt empowered or needed outside the home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e Allied Powers would not have been as strong, may have struggled to end the war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4" name="Content Placeholder 4" descr="pearl_harbor.jpg"/>
          <p:cNvPicPr/>
          <p:nvPr/>
        </p:nvPicPr>
        <p:blipFill>
          <a:blip r:embed="rId2"/>
          <a:stretch/>
        </p:blipFill>
        <p:spPr>
          <a:xfrm>
            <a:off x="4648320" y="2057400"/>
            <a:ext cx="40384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01:22:00Z</dcterms:created>
  <dc:creator>Jonathan McClelland</dc:creator>
  <dc:description/>
  <dc:language>en-US</dc:language>
  <cp:lastModifiedBy>cechuser</cp:lastModifiedBy>
  <dcterms:modified xsi:type="dcterms:W3CDTF">2008-11-20T15:37:29Z</dcterms:modified>
  <cp:revision>11</cp:revision>
  <dc:subject/>
  <dc:title>World War II:</dc:title>
</cp:coreProperties>
</file>