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C65-9222-49D7-B8EC-7633B91C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D13-8B44-411D-A0E2-67CEC773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549-D0FB-4CCA-837F-F5A916C2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79A-197E-477B-A10B-AF7F62D8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FA63-6E46-4B0E-A14A-33FACBDB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5CF-40A3-492A-94E6-A87B701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24E-1C7D-4EDE-9969-126E7349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4352-C4C0-465E-BFCE-9E810D84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3AA-270E-48D2-B135-471DE53C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D727-DCAD-4505-BA96-553F490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3D14-2664-43D4-A3D2-5F9F1CF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728-74B4-4F22-AD5C-526B4BB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FBC3-F638-472B-AC41-F37E409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344F-433B-4FD6-8B1A-8688CDB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DA99-63AA-4B67-8413-A0809337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9D22-56B1-4298-9067-C36B347C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530A-A6FA-41E9-A28E-AD79B249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DA4-2367-49D1-A7ED-40A04E9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149-A6FA-449B-8D53-037A5BF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3CB-10E7-4B2B-8087-CC6A9845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CC8-6CA0-4585-880C-F02846C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7DB-2CD1-49D6-B26F-C74CFB1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C65-26FD-4446-AE71-E6DB4BB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0CF-0195-473E-938F-61432A7A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3DBC-4935-4CF6-961B-29F6EB5DD91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9806-12BF-400A-BE4C-CC58B1A0B07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United States would not have physically entered WW2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nment camps would not have been legalized in Americ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panese citizens would not have been seen as a threat, could have gone on living as they had bee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felt empowered or needed outside the ho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Allied Powers would not have been as strong, may have struggled to end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Content Placeholder 4" descr="pearl_harbor.jpg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37:29Z</dcterms:modified>
  <cp:revision>11</cp:revision>
  <dc:subject/>
  <dc:title>World War II:</dc:title>
</cp:coreProperties>
</file>