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B078-9B70-4D6B-BC7B-189E9D963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2598-AD6C-4525-B4C8-A4D863E9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08B8-632F-4A7E-B7AA-17B803DA4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7525-5305-4B79-B15C-C47A63A19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CE6B-DC8B-47E8-9451-C329A2FBA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47D5-456A-4122-B15B-DB1F03B2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5063-C4E5-41A5-B623-E96F0C69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5FCE4-9ED1-477E-9E79-F872F5F1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E107-EE06-45DF-9C79-5459E901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BC39-5B5A-462C-A830-FD7C111C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2459-B99E-4AF9-BF11-7FE078EA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92FB-52CE-4ADA-8B11-75B025F3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A943-E0A4-4898-93E1-8E64AB5C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5733-4E64-478B-8137-668C030D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7576-B862-43ED-8BD0-C805C273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FF45-0726-4CCE-8232-12A3D8535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7BFA2-ED4A-4EAA-BB4C-76038F3F4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9047-8B15-4E3A-9178-D489A912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6F3B-0E94-4C74-A89A-AD971154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D3A2-60E2-462C-9F87-90D1F67B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D9CD-C2C9-4814-BB38-5BFC3240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03C5-5B44-4FBB-B08C-890BF604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0B89-93AE-4B82-9A54-7C47A030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7B8C-4D30-46D0-AC5A-D0B8DB69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1F1C-87C5-4DE1-B044-D2475E486723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D96A-81BE-46BC-98E1-E2FA8CB6B857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e United States would not have physically entered WW2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nternment camps would not have been legalized in America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Japanese citizens would not have been seen as a threat, could have gone on living as they had been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Women would not have felt empowered or needed outside the home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e Allied Powers would not have been as strong, may have struggled to end the war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4" name="Content Placeholder 4" descr="pearl_harbor.jpg"/>
          <p:cNvPicPr/>
          <p:nvPr/>
        </p:nvPicPr>
        <p:blipFill>
          <a:blip r:embed="rId2"/>
          <a:stretch/>
        </p:blipFill>
        <p:spPr>
          <a:xfrm>
            <a:off x="4648320" y="2057400"/>
            <a:ext cx="40384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01:22:00Z</dcterms:created>
  <dc:creator>Jonathan McClelland</dc:creator>
  <dc:description/>
  <dc:language>en-US</dc:language>
  <cp:lastModifiedBy>cechuser</cp:lastModifiedBy>
  <dcterms:modified xsi:type="dcterms:W3CDTF">2008-11-20T15:37:29Z</dcterms:modified>
  <cp:revision>11</cp:revision>
  <dc:subject/>
  <dc:title>World War II:</dc:title>
</cp:coreProperties>
</file>