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36E7-AED0-4E5D-B625-F10983FC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0257-E08E-40A4-B4C4-B08B3C5D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D524-BEEE-49CD-BCA1-E3DC1B00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5C7-2F0C-43CB-A8C1-1EBDA27B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ED31-670F-484D-8D3A-AD768B9F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B722-1245-43BB-A732-2C24274D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A3D9-54C9-455E-88AB-179C1DAA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5565-DA85-490E-8A72-019CA236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E9E7-E929-409E-824F-CD53A007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0D32-76F0-45BB-A33B-AF20CFFC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AC96-62EF-48DA-B3E5-9CFA9352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A9B-399C-4E2A-9FA2-6487F09E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D556-764C-4564-B2AA-2C3B0934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3D8F-1B34-4C69-B441-22C9766A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5F06-AA6F-4171-B2E0-FFA37EB2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B3F0-A7E6-4D5F-86B3-4E663565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BC24-E949-4AF3-990A-68BD39BE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227F-F4E2-4AF7-AA7E-54689997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A667-B05B-43AC-95E2-54AA3AF4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289-C49A-473B-B846-77895078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FF87-E5DC-4ED5-82AF-17BB574D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A28-B94A-4F5D-9DCB-74A18929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21A-2E42-46AD-83E4-B9626A76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8EC-15C8-4874-B764-C5AE2204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F846-DE15-4048-A09E-30DACCF21DE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7522-5E6A-4F00-8DE6-A8B7BEDDDC7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United States would not have physically entered WW2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ternment camps would not have been legalized in America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apanese citizens would not have been seen as a threat, could have gone on living as they had been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omen would not have felt empowered or needed outside the hom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Allied Powers would not have been as strong, may have struggled to end the wa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Content Placeholder 4" descr="pearl_harbor.jpg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22:00Z</dcterms:created>
  <dc:creator>Jonathan McClelland</dc:creator>
  <dc:description/>
  <dc:language>en-US</dc:language>
  <cp:lastModifiedBy>cechuser</cp:lastModifiedBy>
  <dcterms:modified xsi:type="dcterms:W3CDTF">2008-11-20T15:37:29Z</dcterms:modified>
  <cp:revision>11</cp:revision>
  <dc:subject/>
  <dc:title>World War II:</dc:title>
</cp:coreProperties>
</file>