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F74-2625-4790-B75F-5E984721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6CB-F382-47A1-9E8C-1C564CE4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E94-D532-4F06-BFE0-29936472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709-4436-4875-9E50-A6D23F23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C23-D703-4E8B-8A25-CB2373E5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674-CBCE-4477-8568-0C716739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AD0-DC59-4FD0-A77E-932F787B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A93-87D5-47E9-8B40-ED6959EA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345-1097-4917-BC7F-7869A373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6DA-3F38-41AE-BF0F-776842DF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72A-92C2-4AF5-AE66-7E60B3A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1CC-49C0-445E-AD48-31E2399F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9E47-0BB2-4B5B-909F-6FE6D5C32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No Wa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 United Nations or N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rmany would have a huge em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e race and one religion would ex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ill be in Great 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4" descr="the-great-depression.jpg"/>
          <p:cNvPicPr/>
          <p:nvPr/>
        </p:nvPicPr>
        <p:blipFill>
          <a:blip r:embed="rId1"/>
          <a:stretch/>
        </p:blipFill>
        <p:spPr>
          <a:xfrm>
            <a:off x="4648320" y="2313000"/>
            <a:ext cx="40384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22:00Z</dcterms:created>
  <dc:creator>Jonathan McClelland</dc:creator>
  <dc:description/>
  <dc:language>en-US</dc:language>
  <cp:lastModifiedBy>cechuser</cp:lastModifiedBy>
  <dcterms:modified xsi:type="dcterms:W3CDTF">2008-11-20T15:47:14Z</dcterms:modified>
  <cp:revision>11</cp:revision>
  <dc:subject/>
  <dc:title>World War II:</dc:title>
</cp:coreProperties>
</file>