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648-A8BE-4597-89D5-C456E64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0F0-1688-4179-BC19-478D9CE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40B-3566-4FD2-8CAD-173FD0C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C80-E71D-432C-854F-DF1CE425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0C7-3E18-4575-B52D-A576A59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793-0E80-4E6F-9B93-9B2C9D62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6C9-B61A-47EF-B2C8-CA06DC1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5E9-BAF8-4935-AD02-EC2112A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1CE-9AD7-4508-B290-44CA3A9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CB4-D259-4DF1-A9D0-E16FCB7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B81-D08E-4F5F-BA07-4ED12B4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CD0-A7F7-4A9E-A5B3-49858370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CFF8-D341-4E86-B7A8-60DEA0D7C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No W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United Nations or 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many would have a hug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e race and one religion would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be in Great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the-great-depression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7:14Z</dcterms:modified>
  <cp:revision>11</cp:revision>
  <dc:subject/>
  <dc:title>World War II:</dc:title>
</cp:coreProperties>
</file>