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9467-F8E5-429E-A9D6-A273B05E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12AA-FD2E-4846-AD76-59A9A4CD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980-7B41-478B-87EA-DC1C68C2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65B1-37BC-483F-A4FF-F7A2011A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C5D-3986-4446-A7D6-A2C277C0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F6D-666F-44BE-9BCE-44B2E788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AB0-3871-406C-B17B-D0485F22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7A6-4D33-4A23-ABA9-256BDAE8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C554-A133-4BC9-B76E-9577774B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F6C3-DDAC-4A51-B659-A3CEEE7E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0A18-4CB4-4EF4-B073-7BF1D0F6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63EF-5C8F-48C0-848D-3E97C2F9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F7D9-6F08-47EA-9018-72F108541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No War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 United Nations or N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rmany would have a huge emp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ne race and one religion would exi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ill be in Great De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Content Placeholder 4" descr="the-great-depression.jpg"/>
          <p:cNvPicPr/>
          <p:nvPr/>
        </p:nvPicPr>
        <p:blipFill>
          <a:blip r:embed="rId1"/>
          <a:stretch/>
        </p:blipFill>
        <p:spPr>
          <a:xfrm>
            <a:off x="4648320" y="2313000"/>
            <a:ext cx="403848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1:22:00Z</dcterms:created>
  <dc:creator>Jonathan McClelland</dc:creator>
  <dc:description/>
  <dc:language>en-US</dc:language>
  <cp:lastModifiedBy>cechuser</cp:lastModifiedBy>
  <dcterms:modified xsi:type="dcterms:W3CDTF">2008-11-20T15:47:14Z</dcterms:modified>
  <cp:revision>11</cp:revision>
  <dc:subject/>
  <dc:title>World War II:</dc:title>
</cp:coreProperties>
</file>