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86723-5F35-48EF-95E9-D9A1308E7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9CFE1-C1DF-4FB7-B4D4-D7B595736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11B9C-2521-47C1-92AC-761AEF1DD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2A2D0-0312-4BF8-8602-47DEF4AE5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4BA1D-0C9E-4C44-AF90-8C5F565FC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32649-A819-450C-BB87-8E040F65B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0DF9B-8A61-44D0-9F0B-56821CE58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28780-8237-486F-B0D9-6B11F71F6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F6AB8-516F-49FF-889A-7A0856AFF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3F2B0-9F4C-401B-92BA-939B43A41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E40E0-3AD6-4ECA-BD29-E41AC6546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50FCF-5488-4B0E-92FA-DB9D67B85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DC58B-473D-4E65-974B-CDC851F07A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50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Calibri"/>
              </a:rPr>
              <a:t>No War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No United Nations or NAT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Germany would have a huge empi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One race and one religion would exis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till be in Great Depress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Content Placeholder 4" descr="the-great-depression.jpg"/>
          <p:cNvPicPr/>
          <p:nvPr/>
        </p:nvPicPr>
        <p:blipFill>
          <a:blip r:embed="rId1"/>
          <a:stretch/>
        </p:blipFill>
        <p:spPr>
          <a:xfrm>
            <a:off x="4648320" y="2313000"/>
            <a:ext cx="4038480" cy="31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9T01:22:00Z</dcterms:created>
  <dc:creator>Jonathan McClelland</dc:creator>
  <dc:description/>
  <dc:language>en-US</dc:language>
  <cp:lastModifiedBy>cechuser</cp:lastModifiedBy>
  <dcterms:modified xsi:type="dcterms:W3CDTF">2008-11-20T15:47:14Z</dcterms:modified>
  <cp:revision>11</cp:revision>
  <dc:subject/>
  <dc:title>World War II:</dc:title>
</cp:coreProperties>
</file>