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2E8-972C-453D-90DB-D561171B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3E2-9C88-41E0-9B2C-D218200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B07-22D7-4BD5-B8DB-39567272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89B-D8BA-4623-9CFA-CEB69AD8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87B9-A447-4F27-BBEF-0B5C7068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F568-09D6-446A-8FAE-6AE7743E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FEA-7AA3-4061-90DA-9FA61E47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6F9-B82E-4D29-ACE6-0040816B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509-927F-483E-883B-5797BF6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A510-5EBF-47A8-ABAD-18D2726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2449-E0E7-46A0-9191-57A787AD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F6E-F3DA-4CD3-A932-1D1E4ACB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B5AD-71BD-4F1E-9A42-5B368C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A7B8-72D4-4EC8-8C6B-E424D3E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FA24-3415-4CE4-8EA5-E2C34DF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4DBF-AFAB-41B5-BB95-5A615638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2A6B-AD61-4A32-A811-FFFB6FFB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58A-2189-4CCA-A1E4-81C3A89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462-2CBA-4759-A6F4-2B08DFE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4B-E728-4964-BF22-9A36DB4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602-AC5F-4CE8-93AE-9024E9F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A82-3669-4A2C-A083-FCE3DF8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EA7-A391-4CF0-91A1-10B9F1F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59D-6980-43FB-B635-C038389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CED-C8FD-4E97-8F8F-987009B5C98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A48-B732-4740-A4D9-F6D19B4FA7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nmedia.gamespy.com/planetcoh.gamespy.com/images/history/luger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0760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 Blitzkreig could have led to Germany’s defeat earlier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advances in aircraft, mass bombings would not have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conomies would have suffered, because at the time, the world economy was driven by production of materials used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duction of basic products would have taken much longer because of the advances in tech. from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tbn0.google.com/images?q=tbn:hLQYFFds8xgJ::http://pnmedia.gamespy.com/planetcoh.gamespy.com/images/history/lug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638680"/>
            <a:ext cx="1362240" cy="75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technologies that were developed in WW2, the Cold War may not have began and Communism may have been more preval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faster aircraft and vehicles, transportation would have taken a big hi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ubsequent wars would have turned out differently, or may not have happened at 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taken the steps forward in the workplac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tbn0.google.com/images?q=tbn:shrSxUaFt5CQyM:http://www.wwiiguns.com/store/images/m1carbine_pfc_modelgun_wwii.jpg"/>
          <p:cNvPicPr/>
          <p:nvPr/>
        </p:nvPicPr>
        <p:blipFill>
          <a:blip r:embed="rId4"/>
          <a:stretch/>
        </p:blipFill>
        <p:spPr>
          <a:xfrm>
            <a:off x="5181480" y="5791320"/>
            <a:ext cx="12286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tbn0.google.com/images?q=tbn:i35NvqXQqhfIBM:http://img.groundspeak.com/waymarking/display/2c8c5564-7d6b-4cf4-bfa5-f883d6ec8622.jpg"/>
          <p:cNvPicPr/>
          <p:nvPr/>
        </p:nvPicPr>
        <p:blipFill>
          <a:blip r:embed="rId5"/>
          <a:stretch/>
        </p:blipFill>
        <p:spPr>
          <a:xfrm>
            <a:off x="1752480" y="5638680"/>
            <a:ext cx="12906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6:23Z</dcterms:modified>
  <cp:revision>9</cp:revision>
  <dc:subject/>
  <dc:title>World War II:</dc:title>
</cp:coreProperties>
</file>