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0EB-F962-4538-960B-10B5E8F3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8AD-9B2F-4783-A317-5225356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BA7-B34F-4418-8A5D-E5BBAEE0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FD2-B0C0-47E4-BE75-3E816665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EE5-A2E1-463B-BD98-B2B0021A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0CF-7FB5-43E8-8B78-661E3247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473-9059-4F54-95AC-265A6C9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161-D62A-453B-BD1B-6AD4D1D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9C86-5B71-4207-AF2F-DDBEA99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2D53-C847-4622-AF74-C6912DA0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6B09-33D8-467F-97BC-B6066D9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43D-AB30-47FB-8CD1-84686053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88B-025A-40E0-87C1-7FB8067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AB1-F3D4-4651-A4E3-C2B76FD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A57B-6622-4F6C-AC85-7A3262F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0118-0C55-4AA8-B3BE-F3C8808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7DD-928F-4536-A829-A0F56FFC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0E8-BD91-44AF-9901-8380743E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A7B-1106-4D57-8E8B-DCC44F1F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28B-72D6-4B82-AEE9-DAC0605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5C7-B880-43A3-B290-0066604E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FAA-EB59-4F6A-8220-6AD37F3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B4E-0278-412E-BFCB-86D200D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A07-7503-43E7-B251-3C3BA5C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8F6-52F7-4FAA-94F7-FFBA0C7DF6B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84B-ABB8-4277-8964-EB60519922A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nmedia.gamespy.com/planetcoh.gamespy.com/images/history/luger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0760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 Blitzkreig could have led to Germany’s defeat earlier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advances in aircraft, mass bombings would not have occurred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conomies would have suffered, because at the time, the world economy was driven by production of materials used in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duction of basic products would have taken much longer because of the advances in tech. from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tbn0.google.com/images?q=tbn:hLQYFFds8xgJ::http://pnmedia.gamespy.com/planetcoh.gamespy.com/images/history/lug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638680"/>
            <a:ext cx="1362240" cy="75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technologies that were developed in WW2, the Cold War may not have began and Communism may have been more preval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thout the faster aircraft and vehicles, transportation would have taken a big hi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ubsequent wars would have turned out differently, or may not have happened at 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taken the steps forward in the workplac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tbn0.google.com/images?q=tbn:shrSxUaFt5CQyM:http://www.wwiiguns.com/store/images/m1carbine_pfc_modelgun_wwii.jpg"/>
          <p:cNvPicPr/>
          <p:nvPr/>
        </p:nvPicPr>
        <p:blipFill>
          <a:blip r:embed="rId4"/>
          <a:stretch/>
        </p:blipFill>
        <p:spPr>
          <a:xfrm>
            <a:off x="5181480" y="5791320"/>
            <a:ext cx="12286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tbn0.google.com/images?q=tbn:i35NvqXQqhfIBM:http://img.groundspeak.com/waymarking/display/2c8c5564-7d6b-4cf4-bfa5-f883d6ec8622.jpg"/>
          <p:cNvPicPr/>
          <p:nvPr/>
        </p:nvPicPr>
        <p:blipFill>
          <a:blip r:embed="rId5"/>
          <a:stretch/>
        </p:blipFill>
        <p:spPr>
          <a:xfrm>
            <a:off x="1752480" y="5638680"/>
            <a:ext cx="12906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6:23Z</dcterms:modified>
  <cp:revision>9</cp:revision>
  <dc:subject/>
  <dc:title>World War II:</dc:title>
</cp:coreProperties>
</file>