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E8A-B784-4E9A-955E-19BD8E8D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80D-4F05-4EEE-8647-CE2096B2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E40-330F-450D-BC90-9C4F3B92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D3-6AF2-473B-89CC-7C0105F4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2446-6195-4123-BF2B-A98BB10F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FCA-6710-4B8F-B35B-F3B867A1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A6A4-2361-4F15-8ED0-2F5605A2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94D3-71D5-42DB-8CCD-D40794B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967-71A3-4FC5-A5F6-1D43339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DEE-4AAE-4543-AD43-3B26A97D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F70-7B6C-48B2-A093-50C6F1E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143-AAB9-4A43-8C1A-D4819DEB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36C0-587E-47BF-A275-5E30C7B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BDFB-93BE-4B78-AF74-85D9BB9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97DB-6039-4310-99AD-8E69A007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D2D8-E2F1-4A97-A33E-089FA064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33BC-ED78-4D33-9B9D-CE426F8A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C0A-53DF-4EF9-9189-F8C53894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94C-7B76-4459-BA8E-19C727F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0BF-E7CD-491E-99D6-A84B4E2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D8B-1787-4287-B8BE-10752435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6E3-128B-49C2-9788-418B8D4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A0F-1A5D-4148-84E4-F704A78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764-01C6-4124-8355-0CDEA5C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468-9B14-4141-9979-0FB3F8DE9A2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BFB-AC83-4CC5-96F5-B5F4258456F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nmedia.gamespy.com/planetcoh.gamespy.com/images/history/luger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0760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 Blitzkreig could have led to Germany’s defeat earlier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advances in aircraft, mass bombings would not have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conomies would have suffered, because at the time, the world economy was driven by production of materials used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duction of basic products would have taken much longer because of the advances in tech. from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ttp://tbn0.google.com/images?q=tbn:hLQYFFds8xgJ::http://pnmedia.gamespy.com/planetcoh.gamespy.com/images/history/lug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5638680"/>
            <a:ext cx="1362240" cy="75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technologies that were developed in WW2, the Cold War may not have began and Communism may have been more prevale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faster aircraft and vehicles, transportation would have taken a big hi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ubsequent wars would have turned out differently, or may not have happened at 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taken the steps forward in the workplac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http://tbn0.google.com/images?q=tbn:shrSxUaFt5CQyM:http://www.wwiiguns.com/store/images/m1carbine_pfc_modelgun_wwii.jpg"/>
          <p:cNvPicPr/>
          <p:nvPr/>
        </p:nvPicPr>
        <p:blipFill>
          <a:blip r:embed="rId4"/>
          <a:stretch/>
        </p:blipFill>
        <p:spPr>
          <a:xfrm>
            <a:off x="5181480" y="5791320"/>
            <a:ext cx="122868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tbn0.google.com/images?q=tbn:i35NvqXQqhfIBM:http://img.groundspeak.com/waymarking/display/2c8c5564-7d6b-4cf4-bfa5-f883d6ec8622.jpg"/>
          <p:cNvPicPr/>
          <p:nvPr/>
        </p:nvPicPr>
        <p:blipFill>
          <a:blip r:embed="rId5"/>
          <a:stretch/>
        </p:blipFill>
        <p:spPr>
          <a:xfrm>
            <a:off x="1752480" y="5638680"/>
            <a:ext cx="12906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6:23Z</dcterms:modified>
  <cp:revision>9</cp:revision>
  <dc:subject/>
  <dc:title>World War II:</dc:title>
</cp:coreProperties>
</file>