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BCBD-1B9F-4189-8079-8200342D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1370-3820-4428-9699-27EAF39C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CE9E-076B-40EB-A8F6-E540AE3B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D9FD-F9D9-4EA3-BCF1-049A7317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9428-94CA-4F05-BDD5-E121E094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4B39-F2BC-46AA-BF4B-346AB4B4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105C-8252-45F7-B735-AAAAA2B0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FF91-AB2B-4F4F-AE89-116D93B4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7DD7-E363-48E4-B37A-04C85A72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0737-119E-451C-B973-A521563B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B8A7-A0A7-4028-9800-5B5071FF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CC8C-BB92-449F-BFD8-280CBA25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1693-0E0B-4728-8ED1-FC7985EB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E28B-A72C-434B-86A1-731AE078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496F-0ABD-44AA-8387-CCC4F627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9F93-889D-4C37-B739-22C849A2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0CA3-9767-40DF-AA0D-D67AA62A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2E9D-656B-4172-95E2-A6A87B0C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3071-5688-45BC-A68A-CD383267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2247-2891-4AE2-8E8D-894AF074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9245-0F47-4AA5-92EE-AD29EBDC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6706-BF3B-41ED-B75E-9F4E11D6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539D-8554-4F66-9658-417C9A98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4AC-4AF5-47A8-A7AB-A5864EA2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E31C-6830-48E8-8565-33F2D801412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D64F-27CF-45A1-BD92-AC4805BDB6B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nmedia.gamespy.com/planetcoh.gamespy.com/images/history/luger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311040" y="268200"/>
            <a:ext cx="8607600" cy="115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 Blitzkreig could have led to Germany’s defeat earlier in the war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ithout advances in aircraft, mass bombings would not have occurred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conomies would have suffered, because at the time, the world economy was driven by production of materials used in the war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roduction of basic products would have taken much longer because of the advances in tech. from the war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2" descr="http://tbn0.google.com/images?q=tbn:hLQYFFds8xgJ::http://pnmedia.gamespy.com/planetcoh.gamespy.com/images/history/luge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29000" y="5638680"/>
            <a:ext cx="1362240" cy="752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ithout the technologies that were developed in WW2, the Cold War may not have began and Communism may have been more prevalent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ithout the faster aircraft and vehicles, transportation would have taken a big hit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ubsequent wars would have turned out differently, or may not have happened at all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omen would not have taken the steps forward in the workplac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Picture 4" descr="http://tbn0.google.com/images?q=tbn:shrSxUaFt5CQyM:http://www.wwiiguns.com/store/images/m1carbine_pfc_modelgun_wwii.jpg"/>
          <p:cNvPicPr/>
          <p:nvPr/>
        </p:nvPicPr>
        <p:blipFill>
          <a:blip r:embed="rId4"/>
          <a:stretch/>
        </p:blipFill>
        <p:spPr>
          <a:xfrm>
            <a:off x="5181480" y="5791320"/>
            <a:ext cx="1228680" cy="923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http://tbn0.google.com/images?q=tbn:i35NvqXQqhfIBM:http://img.groundspeak.com/waymarking/display/2c8c5564-7d6b-4cf4-bfa5-f883d6ec8622.jpg"/>
          <p:cNvPicPr/>
          <p:nvPr/>
        </p:nvPicPr>
        <p:blipFill>
          <a:blip r:embed="rId5"/>
          <a:stretch/>
        </p:blipFill>
        <p:spPr>
          <a:xfrm>
            <a:off x="1752480" y="5638680"/>
            <a:ext cx="129060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1:22:00Z</dcterms:created>
  <dc:creator>Jonathan McClelland</dc:creator>
  <dc:description/>
  <dc:language>en-US</dc:language>
  <cp:lastModifiedBy>cechuser</cp:lastModifiedBy>
  <dcterms:modified xsi:type="dcterms:W3CDTF">2008-11-20T15:46:23Z</dcterms:modified>
  <cp:revision>9</cp:revision>
  <dc:subject/>
  <dc:title>World War II:</dc:title>
</cp:coreProperties>
</file>