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7DE7D00-0C28-4B51-98F5-EE00891A7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01E1D16-0F3E-4DCC-9170-3F5145B4E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AE16ABA-33A2-40C1-9FFB-F0BA804B7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F0D5E2F-D0BC-45DF-B09E-11BE729670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9FF8A18-10C0-47C5-8752-AB3BCCAF65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AA2F047-F8D4-43C1-954E-D17F4FD10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7EA6FDA-3315-4F58-A4B9-BF8805584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B77F0B0-03DB-46F0-8DC2-05C724FC10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EE25636-6921-49B3-9705-BFEB8B183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22202EF-8DF1-4933-A170-B1D591E759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56F5624-DFD7-4C7D-8D27-B5B0EB6E1E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248D4DF-7BC0-47A4-BB74-274962EC20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0E50C8F-0AAE-4411-82D3-DD22FB2D875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24F4C3-C939-48F6-9CD9-308659A9F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E478EA-BC16-4EE7-8149-48C4BB525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20BEFF-1828-4F17-AAB8-66E9DAE7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D95F16-1445-45C3-86FF-8FD905B99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3A6117-4A5C-49D3-B18D-16B637701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BFA4F0-F85B-4983-BBC1-3621BF545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4DDAF8-C48D-4E34-90C3-6B46C3763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4DE912A-601B-4568-8774-A117AE540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8A2625-A9D7-4557-8F39-7F949284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CF8336-8F2E-4D7C-9A8E-02287EB0F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742A41-2263-4A20-9483-A28A2214C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21A363-7FC4-44B6-AEE9-8AC02F271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9EC87D-B2A7-4CBF-A12D-AC7CB4CBA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DE19A-7DFC-422D-A439-0804992B52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2E84E-316F-48DD-8930-C9FDB6930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62E5D-BA32-4EE1-9761-E3F495E15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D8C8C-FC50-499D-8EC7-DC008253D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D0132-28C1-405C-8745-DC878BA28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31DB6C8-0404-4B88-819D-BA6C26C49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4A39F-911A-4092-8E2C-334D873C5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3681D-5214-4AFE-BB53-A7F0732E8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ADEC8-4BE7-4090-898A-19A06F9AD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52C6A-D43F-41F6-942B-AD1F2CE69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E1B19-078E-4846-94BD-437304A9A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A0023-947C-4AA6-8165-316ADE862F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C94CF1-182D-4558-B6AB-E4BE051261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924D8C0-28FE-46F1-AC48-82D7825520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9955CC-56F5-478D-A728-FD66415BF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40A0F3-8269-4244-96CD-E3EBF6ECF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6DA4DC1-B560-4052-9FE9-14760CE28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E67E06-E15F-4FCF-B1D0-1573F9B8D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433A16-397B-4803-9136-C8111DDA5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43E8CB-1683-4884-822E-C62862AF6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7AE7DE-CE0C-4D02-AE9F-3063C7DCE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E87813-4CF3-4030-B0EB-E75E680D7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D9C0FA-AADA-4974-8375-F63A8C83F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DACB49-9178-46A6-A8B1-1AD179113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2434A35-40A2-419E-BC70-166D0BA907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2A9019-D8E8-45FB-BD72-CEC2AA832A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283704-67D2-48E3-A28D-A64F7E1926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36B8DFD-0D26-481F-84A9-F56E08621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1AB1B8-1104-4AB6-9310-A2DCF60B1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B88E7-2A3D-49A0-A905-181FCEAE38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AD6BC-FB3E-44CD-84F2-73CD2E668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AAC99C-CEC3-4EB9-BF00-916986C97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7603E-A1CD-47B7-AAF2-F4AFE929A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1F9E3-6E4F-43F4-A44A-391134C82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6E2F9-7D82-4D13-AAE5-FF6A08ED2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5D82E-19D6-4FBA-B7B8-C63888DAB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CBBC75-6571-41EE-82CD-11C1C84C5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3C3D7-EA9F-4969-BDD2-222403262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B15CF8E-5660-480A-8B0F-8AB1D66F8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D17827-EB1C-4973-AEB3-253782E5F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4FFAD-5FA7-446D-A266-B86568A856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3E9CA-2E96-4A57-940E-D4D30C9A7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595B3B-138D-4ABB-96E9-069DED29C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D30083-FA65-41B1-8711-F9E2F04C7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CB860-16C4-49F9-9B29-BBA86DE97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5BAC0-F554-41BB-85A1-531893A01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A1A57-2D93-47E3-957C-E2398D527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7876E-4E47-4827-B132-ECDC9DBF5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38874-AB17-4436-952F-61B729936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0A174BC-7A0E-4F70-B7AF-F2C95842E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6A347-67BA-486B-A7EE-AE42CEE1E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815B0-D883-4690-A58E-363070BF64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62DD2B-E079-469E-B3EE-3D0B43536B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7F589-F958-445D-8E8B-244D212F03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C6AA4-D108-4A8A-8647-A875259C5E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7A22B-BC4F-4B24-A341-8A1DB293B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9A8EF-E1CA-4D5F-BBE1-A3A7E4CA5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F617B-8AA6-4220-850D-9BA50DD01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86775F-AF5E-4F51-A1B8-2BC147E73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C1FCA-86EA-4952-A69A-067BE8C31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8DD2AFE-C227-4CDF-B934-925BBD412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E6DDD9-5741-498D-B446-AD42793DD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FCCB9-DA1B-4BAD-A6B8-5389AFB8A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A21EFB-492D-4014-B015-0B3A77477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51F7E1-4434-485E-8EFC-2A56D8B23C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A84D00-E91A-4B1D-AB9B-80B24A943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B975A9E-C7B3-4654-8659-02F42E33D8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2BE755B-570C-4DF5-982C-722B398F3A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C2BAC1F-5F44-4456-A487-552739DCF1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5181855-13E8-4639-B937-26189267C0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66D9E58-DEBC-4BB9-9378-F47AF4C62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53B788-E455-456A-9CA6-4268CF7AF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2039E75-464C-4091-B60F-6AF52236D3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9AC9B59-36D3-4A40-B558-C9340D8AC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B8836A7-5922-435B-BCAB-1CDC49836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2CBFF80-E47C-493F-ACB4-32C1934C9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4AC2BC5-F576-4624-9571-6DE5332C0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A97EC89-EC57-425D-8988-C7B9B01AFC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0E2413D-D8B2-4490-8E44-128E44027F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96577E8-76D8-4CB1-BFBB-156AF002EA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9D7EC65-0B2F-48C2-AE61-3DC2C2BC71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97A2E1D-76DC-4A3D-B579-4F1378F48C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E095-1F45-4D33-80C4-F6C751BD658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7154-E131-457D-BFE3-598FB984DC1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68BE-AE43-44D0-BD63-7655F2971C0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CC6B-D2F3-4C31-AE5D-AFB3A994FA4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757A-DAEE-44D8-B432-5F52F9C6DA2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5664-62F2-415D-BF7B-F7D618BA7C7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1DF2-FC81-4971-AB1A-20681D9E5A2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697F-4803-45EF-BA4A-243CCAF377A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427F-A126-4079-8374-518E46E9709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0720" y="249120"/>
            <a:ext cx="8541000" cy="1165320"/>
          </a:xfrm>
          <a:prstGeom prst="rect">
            <a:avLst/>
          </a:prstGeom>
          <a:ln w="0">
            <a:noFill/>
          </a:ln>
        </p:spPr>
      </p:pic>
      <p:pic>
        <p:nvPicPr>
          <p:cNvPr id="395" name="Content Placeholder 4" descr="D_DayImage1.jpg"/>
          <p:cNvPicPr/>
          <p:nvPr/>
        </p:nvPicPr>
        <p:blipFill>
          <a:blip r:embed="rId2"/>
          <a:stretch/>
        </p:blipFill>
        <p:spPr>
          <a:xfrm>
            <a:off x="304920" y="1600200"/>
            <a:ext cx="4038480" cy="3657600"/>
          </a:xfrm>
          <a:prstGeom prst="rect">
            <a:avLst/>
          </a:prstGeom>
          <a:ln w="0">
            <a:noFill/>
          </a:ln>
        </p:spPr>
      </p:pic>
      <p:sp>
        <p:nvSpPr>
          <p:cNvPr id="396" name=""/>
          <p:cNvSpPr txBox="1"/>
          <p:nvPr/>
        </p:nvSpPr>
        <p:spPr>
          <a:xfrm>
            <a:off x="4648320" y="1646280"/>
            <a:ext cx="403848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Allies would have re-grouped, enlisted more troops, and tried again. </a:t>
            </a:r>
            <a:br>
              <a:rPr sz="1800"/>
            </a:br>
            <a:br>
              <a:rPr sz="1800"/>
            </a:br>
            <a:r>
              <a:rPr b="0" lang="en-US" sz="1800" spc="-1" strike="noStrike">
                <a:solidFill>
                  <a:srgbClr val="ffffff"/>
                </a:solidFill>
                <a:latin typeface="Rockwell"/>
              </a:rPr>
              <a:t>England would have been in more danger, but not the US. The Germans simply didn't have the firepower, naval or air power to get their troops to the US. Same thing with the Japanese. </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ew front would not have been created, and Germany would only have one front to deal with.</a:t>
            </a:r>
            <a:br>
              <a:rPr sz="1800"/>
            </a:br>
            <a:r>
              <a:rPr b="0" lang="en-US" sz="1800" spc="-1" strike="noStrike">
                <a:solidFill>
                  <a:srgbClr val="ffffff"/>
                </a:solidFill>
                <a:latin typeface="Rockwell"/>
              </a:rPr>
              <a:t> </a:t>
            </a:r>
            <a:endParaRPr b="0" lang="en-US" sz="1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e Nazi forces would still have control over France. </a:t>
            </a: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22:00Z</dcterms:created>
  <dc:creator>Jonathan McClelland</dc:creator>
  <dc:description/>
  <dc:language>en-US</dc:language>
  <cp:lastModifiedBy>cechuser</cp:lastModifiedBy>
  <dcterms:modified xsi:type="dcterms:W3CDTF">2008-11-20T15:43:50Z</dcterms:modified>
  <cp:revision>11</cp:revision>
  <dc:subject/>
  <dc:title>World War II:</dc:title>
</cp:coreProperties>
</file>