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E01134A-13B4-42A9-838A-4360D7539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E3AE265-E678-40C1-8438-7FDAE036B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32E245B-3276-400E-8F19-C8BCBA294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7F52A6B-2770-4505-B743-3FE8720AEA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FD9C391-D1B7-4313-BABF-CABE4008F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0F66799-BA9C-4B6A-9C12-7BE7C483D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8CCA733-425D-428A-9172-9E4371F9A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609F597-5220-44CF-9768-827AF01BFF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6570EC0-31F5-44AA-B7EC-A61ACAED6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65E89A3-5DF7-4288-8645-C130EE4E0C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BFD1532-7C11-4E93-A8D2-676335843A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CBDB4DD-68FC-4FB3-AEA1-2010BA99CA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BE8DD60-F698-45B2-9475-971DEE930B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D56E0E-8875-4EA0-9BB4-DAA0E3CC6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B3F60D-E249-4CC0-B96C-5BF6C4039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0A796A-CA18-4D53-99AE-5978D6D08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634B2E-8B6D-4E2C-9DD0-EF91ECC37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D27C2B-F51E-45DD-8273-2EEC5D6A5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65D973-358D-41EB-8E21-474CDE23A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15E557-2CC4-492C-B5F6-ADF4C0F52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40D5EF9-6357-4041-A2E6-AC6D5719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0AECA1-C1B8-4FA1-992B-C303C38ED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B232D3-7F7A-439C-A159-88BDF71B3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AE64EE-1562-4958-8B3D-CBFBDDD7D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00D4C8-F2A9-48DF-84D6-CEA88B352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478E4B-3C1F-4A0A-89CA-EBD16083B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9E34D-356B-4A0A-A790-2D44079E6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81F7F-07B1-41D7-960D-374C91CB5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7CCAE-A947-4EA0-8211-58079E430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FDC67-9984-4B27-B4DC-4A0F2BC17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748FE-ECE5-48D6-9336-CC84DF9A8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031E0C2-0635-4C88-B0DA-68A0EE9CC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995CC-562B-420D-B32C-05437151F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1DF27-33A1-4775-9A4A-16B764576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F9858-7EF7-4076-8BB7-F39925C08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D3F82-CD5A-48AB-BB34-0A4F65F5D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7C5CB-AFDA-4008-A5BE-3AC280FB7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75B379-E765-4766-843E-90DC08A784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458FF-81EE-42C4-B028-192030A66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BCB56E-5945-4FF4-8C7F-B66A90416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94EF0A-9680-48B5-9AE3-8E1CAEA23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7AB201-664D-4E87-A0E4-4A677BF7A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551148B-D232-49E3-B01F-E2452BF08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305BDB-549A-4C0C-94AD-626C2D424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913216-4AB9-4A4B-986F-3CCE66C87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636E25-C9F6-4244-8028-22A6B2AA6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DE6894-37AC-40CC-976A-35C7F9B44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153FEE-C9C6-47BA-9F5C-839EE234E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45C51D-FEFE-4DA1-AD50-C47C284C9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6D83FB-6F68-4455-8FEB-0E93D31A9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516DB6B-F10B-4128-8346-55561F600E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2EE74F8-A4D0-4466-9D56-7E8BF32831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B2AB6-A791-4173-82D3-8E07619ED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1484EF7-89E2-4B0E-9CC9-5BAD2CC89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58CC1-A360-45C7-A175-C5E4FD477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874A5-12F2-4BB9-92DB-B17EE3B1C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0B653-17B7-43B5-B98F-9855A6433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0BE98-875F-4339-A055-B40DF636A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E01B2-CE84-4EBC-B30A-319966517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6EB58-EE92-4537-A7AF-2C90D9E6F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8E349-5DFB-425F-B61D-D23E20CD0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2B18A-9DE1-448D-A8C8-7D9A3D1AD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E0364-3B5A-431D-9DCE-0B5C4CDB2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6A8F25-A177-4D88-AF32-8A938FDA5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6636F2C-ED62-4520-A0B4-363BCD928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EFE742-0240-46C2-8F11-52D138100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3EA586-DB14-4DEE-A34F-DF5F9F980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97730D-AC0C-4E97-AA72-B5DF58207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B2178-7FE9-41BE-82C6-5EE9B7DF1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DC758-7377-4AD5-A20F-437DE6D38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16C63-2BF1-4842-B62D-BAE86C72B0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D0A660-F475-4343-8F7A-96CD57232C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FA9CF-4AAF-4416-8559-02B367A85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45968-25BE-4736-99FA-C7B47E610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CF5F1-FEDC-4126-98C1-6D245F5A7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A65B52C-4EA9-4DDA-8713-63D61DF49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58B51-22D2-4900-96BA-313F65DE7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4C193B-9E6B-4C70-88DA-85E6D1CD59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E3CA78-C1C1-4D8F-93FB-304984D051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CB4EB3-FBD5-40DB-AD64-6205CDAB60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DE45D-549B-477D-807B-53CB28764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3F034-5953-4F0F-BC06-1B5F361B8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CF0F10-95BB-4C8F-A436-C01E1488A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36324-3984-4FC1-96CF-16BBBC837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339B4-9806-41CE-A9FD-FC5AFAFD4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ADF0F-5A59-43AB-9BFA-F9ADCE929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FD798F5-6DC1-42F9-8A1A-96C0830D4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18D58-CA75-43B3-A372-A95AD4FCE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DEE73-A268-425B-BC11-CE49CB978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61298-50C4-49CB-92EA-D62A71E47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3E061-8508-4E3F-BC62-F4BA18A29C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E2044-3704-46F0-A18D-561E325C13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28FE7EF-147C-4A57-BE4D-9B880610B6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1467877-0B0D-478C-B693-52D3EC9B4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B40B75A-27E4-4D7D-8021-41C26EE1A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B0D30B2-7783-4957-B3C2-CCC5742267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63BAF79-0404-4B32-932D-D6115AAF9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0C911AA-7C11-40F5-BFE9-36423A804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6ADEDF8-4928-453E-BFBE-46AC41F23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B926835-C34B-468E-8E9F-56678B1A4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CB95343-6937-4EA9-A062-88167AF11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B43AD67-EB1D-4CE6-8A9B-D7800AD5A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24168CF-70B9-4C56-9808-EB90D0E1DD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B49E80D-B6C8-4A5F-B920-8DF362E1DC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99B12A4-3B45-479F-8B8C-E9F17064A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345D999-9C07-4D2A-B75E-405CC008D2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19B7C7B-18C1-433C-BF60-FAA9ABD31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4CE7231-0C7B-43E4-AD08-C42D7D9A8A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64A3-B18D-4899-B712-2DC6C94A29F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BEB5-0383-4AF8-BDBA-F508703DB80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DF7D-72CA-47B9-A009-51338FD5B2F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B288-7B71-4917-9521-1B737A0BA15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CAC3-2CE7-4DBF-B6BF-D782BA5111D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52D4-8D43-4360-9230-38F38682709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C763-CFF9-415F-B086-72165280C80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D82E-27F5-4D22-BA82-5530946CF99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BC62-841B-45AE-A6CB-1875D90A4F8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0720" y="249120"/>
            <a:ext cx="8541000" cy="1165320"/>
          </a:xfrm>
          <a:prstGeom prst="rect">
            <a:avLst/>
          </a:prstGeom>
          <a:ln w="0">
            <a:noFill/>
          </a:ln>
        </p:spPr>
      </p:pic>
      <p:pic>
        <p:nvPicPr>
          <p:cNvPr id="395" name="Content Placeholder 4" descr="D_DayImage1.jpg"/>
          <p:cNvPicPr/>
          <p:nvPr/>
        </p:nvPicPr>
        <p:blipFill>
          <a:blip r:embed="rId2"/>
          <a:stretch/>
        </p:blipFill>
        <p:spPr>
          <a:xfrm>
            <a:off x="304920" y="1600200"/>
            <a:ext cx="4038480" cy="3657600"/>
          </a:xfrm>
          <a:prstGeom prst="rect">
            <a:avLst/>
          </a:prstGeom>
          <a:ln w="0">
            <a:noFill/>
          </a:ln>
        </p:spPr>
      </p:pic>
      <p:sp>
        <p:nvSpPr>
          <p:cNvPr id="396" name=""/>
          <p:cNvSpPr txBox="1"/>
          <p:nvPr/>
        </p:nvSpPr>
        <p:spPr>
          <a:xfrm>
            <a:off x="4648320" y="1646280"/>
            <a:ext cx="403848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Allies would have re-grouped, enlisted more troops, and tried again. </a:t>
            </a:r>
            <a:br>
              <a:rPr sz="1800"/>
            </a:br>
            <a:br>
              <a:rPr sz="1800"/>
            </a:br>
            <a:r>
              <a:rPr b="0" lang="en-US" sz="1800" spc="-1" strike="noStrike">
                <a:solidFill>
                  <a:srgbClr val="ffffff"/>
                </a:solidFill>
                <a:latin typeface="Rockwell"/>
              </a:rPr>
              <a:t>England would have been in more danger, but not the US. The Germans simply didn't have the firepower, naval or air power to get their troops to the US. Same thing with the Japanese. </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ew front would not have been created, and Germany would only have one front to deal with.</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azi forces would still have control over France. </a:t>
            </a: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22:00Z</dcterms:created>
  <dc:creator>Jonathan McClelland</dc:creator>
  <dc:description/>
  <dc:language>en-US</dc:language>
  <cp:lastModifiedBy>cechuser</cp:lastModifiedBy>
  <dcterms:modified xsi:type="dcterms:W3CDTF">2008-11-20T15:43:50Z</dcterms:modified>
  <cp:revision>11</cp:revision>
  <dc:subject/>
  <dc:title>World War II:</dc:title>
</cp:coreProperties>
</file>