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BBA08C12-E9A4-4106-97AE-8F39C5A2B9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A08D102-B299-43B3-9A60-2BFFBDF08A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D0237F28-8141-4A0F-B928-8F2EECD5C9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2E106BB-6955-488F-BF57-2F20D698A2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745BC64-C833-419C-B33E-6A48F17D49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5E2E75A-41E4-4550-B271-3FC16CBB26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A1EB06C-8A1A-41FF-A89D-6150888534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7945018-966D-4A4D-A554-8ADF3B1DD9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6D63DB7-1116-4E6B-BC36-B73B068340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923C0036-1578-491D-B0AE-46F454C81D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50502FB3-4234-4597-9B47-B00808AB1E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EE2F74CA-B1FC-4915-ADD6-BCF3C544034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554C2BDD-CD5A-4CF1-A350-DAE5E766304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0CC179E-658E-4952-B317-2E2AF06120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AA6EEB-967E-4FEB-A02D-EC2F852A6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B47259A-73EF-4EE5-85D9-14A4FFDD9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ACDB21B-1F5B-4E9F-9F7C-D5427A19C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BFF9E58-8791-4461-A43E-825E90FE2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2538FE9-43E9-4223-A2A5-7D3E799F1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233BBC-46C4-453B-8524-CB8C4E662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4AAE624-DB95-44B4-9310-F89215052E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02B2010-D2A6-49E5-960D-BCDCD151A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0574BC5-60AC-4C89-AED7-EC6C5D57B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83AC193-C47C-449A-96E3-148B63E73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037FF36-4E0D-4591-9CC1-DBE6D22F3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D6E4FBB-EF68-46B3-BC48-63D7B8B5D9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5C4EB8-10C1-4878-B291-FA5BE09E78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4639E3-B652-4D44-B652-4C54A34C00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8E47C6-3A01-44C9-84F9-8DF849CD6E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E1BCA1-412D-49D7-9AAF-185FDA17B7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0373D0-DCCE-4E08-8634-D319FED70E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893124B-4FB6-4F13-9108-6D07F0B745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3967A0-BC4B-4ABA-82B1-0B7E024B34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E02743-7C91-4665-8B82-73E92A2DE6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0CD41A-FDD0-400F-8C5A-FA1EF00731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5D236E-833C-4E74-8517-460E7926BA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BE3899-EE8B-4E92-835D-CCFA098A06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993D6A-A3EB-40F7-B027-54151C235C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482613-A2E1-43DE-B3C2-6358D63933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EE8DB8D-0B38-45E3-8053-CE71F6FDC7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9FE1A01-8372-4DA4-8BD9-C8F8C151FE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054E35E-FC6E-4D6D-B1F3-1F6CF2F514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D4F864E-4298-4275-9685-55CD5B7848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5B8A0CB-6E12-4191-976D-0C179026AB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EDD2081-004F-4FED-8120-58A44F1F2F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BF2CE9F-FB6A-44D0-8707-B7BD8086A3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86AAEAD-EA80-45B9-B637-A5A9D4493C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DC978E0-1443-4961-BAC2-0C097F0FE8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24B4394-D354-4A7C-BF67-633C294EB7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620E1DB-91F7-4146-B202-158531D097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B77BF25-37F6-403F-9F7C-5A7641DD6E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5253637-B34A-475F-9B2D-A1D53221A8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032AAF-9029-4A79-9DA7-390449A98C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5FCCAA6C-6187-4D0D-8E6D-1670B54B3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30F13F-9A51-403E-92AA-4FA86EB60A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261BF6-71D7-4F8D-8FF7-06C01D9D32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391EAA-9000-499E-8013-BE5BF11174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9347AA-287F-4926-90A3-2441C81D42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3D917F-D8CE-45E8-895F-90A3799CF3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B9530A-C9DA-4E4C-B93F-ECAE65CC0E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D4FE3D-A2AF-4EE9-B15E-93DF4E87BF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1B89A4-A165-4107-AD61-2C655C7288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5DB258-4F83-4FF7-B4B7-D1FD171E17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8E3858-1C0F-40B3-A3B1-438960969F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F9B87BB-6327-4511-AC5D-DC5F5EEE55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A977E7-8B21-4C8F-92DF-FF4D59CB84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722259-E16C-434A-A87D-1929C0DE3D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800752-8F20-4266-9754-EF5B2020A8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0E24F2-5913-4BB1-B660-68650C4B53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3E2C87-0BC2-4173-AD6D-8381781632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90AC1E-8BAB-4A56-8523-563502D80E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0E798B-9CAC-4A36-8451-4EF2AE4E94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B177C2-494F-4894-BED9-7D0E49C134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12C845-2F8D-4538-BCA9-135B1C640E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D26B21-7947-498B-A9CC-8CF96B83B6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45C3A80-53CF-40AE-97F6-5D33DB0E5A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46577C-18D5-49F6-9683-3997860B07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62B9B4-1759-4734-B5E3-42B5BFD943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4CE98C-20FC-44A9-8974-0BFA84EE72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1E5CCC-CE68-492E-8A03-D9D19FBB04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835A6F-93AA-45CE-AC19-39C758334E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24D9A4-90C6-483F-AA04-6A11070951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749551-2D76-4126-986A-1D776F025E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95D109-7B4C-4562-A40F-8735DD3D48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94FF24-4138-4805-B954-0D416E37BA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87067D-433C-46ED-8D1A-0CD10D746B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FEF24DC-31D2-4738-A81E-1702DA91B7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AD424A-7838-4ECF-896A-024AC9FD78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F6F243-3088-48A7-9CCB-B0C9DB1BB6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252A9D-1EE0-45C4-A609-CF98EA580D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F2F33E-E5B0-4FA6-A80B-385287E51E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740FD4-679F-42E3-92FB-19539A3037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FEC095B3-27D4-4F12-B653-F3ED15F97C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EC7FCB2-4D15-4D0E-953F-0BD56DCF2B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1D10FAD-E559-4E21-A165-1AE0461E4B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6C2E804-8ED7-4CAA-AE16-4B6C6281AB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7113CEC-EA4C-419E-85F9-4B99455F15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2E1E289-3639-49DF-B9B4-E39A9429E5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C7D2126-99BA-4581-BEF5-E11B0916BD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11569EE-41F9-4348-A01F-FD13A844A3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C1CA8FB-138B-4953-A282-94600D0A11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EFDFB3C-4E84-4071-96C6-2E102D92B9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7C701970-AF44-4567-9FC8-7E725363BE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62D2B47A-1429-4247-A3DD-DC6DBF72B2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92154352-67C5-4560-B25E-61D035A8AE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8D7E93C4-D8E2-482B-B30B-F1A3F7A137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1ADE99A-5BC9-4A98-B3A9-0CDF87D2DA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53EBEE1B-B113-49B4-9FD1-2DCC65BAB7B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7B3D-E590-4710-8BFF-0217638C8C42}"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6CA3-2551-471F-ABDE-D2DF274737FE}"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BABA-4111-4D2F-A1BD-9F152608EFB2}"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D23C-A28C-4BA6-B4CF-C97327A0FA17}"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EFAD-1BBD-4D82-9D24-9E542B2107FE}"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9D18-BAE0-4376-BB29-9A1FBC24F51E}"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5441-8E6B-4F73-9BFD-7662A55BA658}"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479F1-0CA5-4B5F-98FD-E158C8C764F0}"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1532-C65B-46FB-897D-FE1E4E01FA23}"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450720" y="249120"/>
            <a:ext cx="8541000" cy="1165320"/>
          </a:xfrm>
          <a:prstGeom prst="rect">
            <a:avLst/>
          </a:prstGeom>
          <a:ln w="0">
            <a:noFill/>
          </a:ln>
        </p:spPr>
      </p:pic>
      <p:pic>
        <p:nvPicPr>
          <p:cNvPr id="395" name="Content Placeholder 4" descr="D_DayImage1.jpg"/>
          <p:cNvPicPr/>
          <p:nvPr/>
        </p:nvPicPr>
        <p:blipFill>
          <a:blip r:embed="rId2"/>
          <a:stretch/>
        </p:blipFill>
        <p:spPr>
          <a:xfrm>
            <a:off x="304920" y="1600200"/>
            <a:ext cx="4038480" cy="3657600"/>
          </a:xfrm>
          <a:prstGeom prst="rect">
            <a:avLst/>
          </a:prstGeom>
          <a:ln w="0">
            <a:noFill/>
          </a:ln>
        </p:spPr>
      </p:pic>
      <p:sp>
        <p:nvSpPr>
          <p:cNvPr id="396" name=""/>
          <p:cNvSpPr txBox="1"/>
          <p:nvPr/>
        </p:nvSpPr>
        <p:spPr>
          <a:xfrm>
            <a:off x="4648320" y="1646280"/>
            <a:ext cx="403848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The Allies would have re-grouped, enlisted more troops, and tried again. </a:t>
            </a:r>
            <a:br>
              <a:rPr sz="1800"/>
            </a:br>
            <a:br>
              <a:rPr sz="1800"/>
            </a:br>
            <a:r>
              <a:rPr b="0" lang="en-US" sz="1800" spc="-1" strike="noStrike">
                <a:solidFill>
                  <a:srgbClr val="ffffff"/>
                </a:solidFill>
                <a:latin typeface="Rockwell"/>
              </a:rPr>
              <a:t>England would have been in more danger, but not the US. The Germans simply didn't have the firepower, naval or air power to get their troops to the US. Same thing with the Japanese. </a:t>
            </a:r>
            <a:br>
              <a:rPr sz="1800"/>
            </a:br>
            <a:r>
              <a:rPr b="0" lang="en-US" sz="1800" spc="-1" strike="noStrike">
                <a:solidFill>
                  <a:srgbClr val="ffffff"/>
                </a:solidFill>
                <a:latin typeface="Rockwell"/>
              </a:rPr>
              <a:t> </a:t>
            </a:r>
            <a:endParaRPr b="0" lang="en-US" sz="1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The  new front would not have been created, and Germany would only have one front to deal with.</a:t>
            </a:r>
            <a:br>
              <a:rPr sz="1800"/>
            </a:br>
            <a:r>
              <a:rPr b="0" lang="en-US" sz="1800" spc="-1" strike="noStrike">
                <a:solidFill>
                  <a:srgbClr val="ffffff"/>
                </a:solidFill>
                <a:latin typeface="Rockwell"/>
              </a:rPr>
              <a:t> </a:t>
            </a:r>
            <a:endParaRPr b="0" lang="en-US" sz="1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The Nazi forces would still have control over France. </a:t>
            </a:r>
            <a:endParaRPr b="0" lang="en-US" sz="1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01:22:00Z</dcterms:created>
  <dc:creator>Jonathan McClelland</dc:creator>
  <dc:description/>
  <dc:language>en-US</dc:language>
  <cp:lastModifiedBy>cechuser</cp:lastModifiedBy>
  <dcterms:modified xsi:type="dcterms:W3CDTF">2008-11-20T15:43:50Z</dcterms:modified>
  <cp:revision>11</cp:revision>
  <dc:subject/>
  <dc:title>World War II:</dc:title>
</cp:coreProperties>
</file>