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8FFD5A6-326F-4949-8239-5EF4F2669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E00F876-6946-4483-982D-463F78F72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71DBAD1-EE75-4EEF-8B9C-DAF8DDB339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7BA80B8-F6BE-4F2B-8A71-71D441B769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0C57F62-04CB-4F1C-9379-FE8E9FBF56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3D19380-F884-49ED-90C7-027E546DA5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61C4578-B73F-4528-85EE-54EBD698A8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EF256EE-4A6F-46D2-9EDC-865AF7C74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1D71DA4-A55F-4C89-9C62-72929C27D1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57BFA5A-AC34-45E4-BBE2-A093D8373F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48FC24D2-8840-443C-BCE8-B95F139747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0F59902-2A21-4079-A371-CFEE659B0C7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C66F3FC-3DC1-4377-BCB2-75AA4C7275F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0EAABAD-1239-451B-A7AF-05125F321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EE6717-7E19-4C08-BE27-76217EAD2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B760B8-2EAB-41AD-B656-C8E5C6ED9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D155A5-57C4-49DA-9D05-EFFB56F3E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DB1613-81F7-46CD-AD42-CEEE331B5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02561BE-F2B7-4289-B5B2-4603EA023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1F727A-8633-4C2A-ADF2-865E2415E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AA819F4-06D8-4115-9CCA-424BAC627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77BC70-2F5B-4F4E-9A12-F0B18EC4B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C26CDB-4200-4BF0-A261-E43852918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80C0D0-1639-4D0C-9EC5-415966C60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BF1862-1668-4BE5-B436-7899C3E14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332558B-EEA2-44E6-A977-C6F6584E8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19A15C-F482-4CB1-B834-D05D5C9C7E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57DAF-54AB-4275-9625-BC3B34C0D7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C552E-92C6-4945-8503-BD36C7853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3DEE8-5999-4815-B264-302B8740A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40B7B9-7AD6-43A4-9B86-CEFDD623A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CF37958-F024-4685-9503-0700602CE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D1DE0-1FB0-4721-8862-48201C857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B2D3F-5398-4576-B382-73079F897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AB5F8-897F-42C2-AE31-CD63BDB35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7A730-C5CA-40D5-8603-9250B75A5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089FAF-8480-495C-B6CB-43E959472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C22C78-CFA1-499E-B787-EFDF6BDFAE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F1CF4A-8DC0-4ED1-81DE-2BD530D015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6DF95FF-16B8-4BD1-87AF-22B7D3C3A2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D74A9F-4182-43F5-BC25-CBFBB0DFD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FE7747-9B99-49C5-9D9E-F7B8F5ACE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21D58A0-24C2-4509-A4F9-6215F1DBF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DE30DD5-B6F6-4DBD-85EB-5F622A094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F5CE43-80DA-4F2A-A391-EE7415404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4EE794-0178-4AAF-8E26-5495AFA50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A09675-B50A-4727-A1A2-911105A11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C91413-604A-4127-BBBD-E92795145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FC5015-2F55-4A67-9E9D-6EBE8E3F3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4474B4-1511-4D18-BD98-CF5AB3364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875CBA-8C80-4EC2-B11B-ABB1A5870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389F581-411B-47DA-91B4-649D0B3750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36A588-7CC4-4968-9184-22A8CAF77A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7A23267-E794-4C5A-BAEF-AD0A6D29C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970275-108F-43A7-8BEF-7885CA90A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A10367-4FE0-448C-8A13-0609ECE50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1C2A67-1334-4832-BBE4-37CB4652F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DEF45B-7CC1-405B-A617-815C8EFCF2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0976F-AC17-435F-A91D-887A41256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7338D-E9A5-424A-AA1E-B67DF7806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7BE79-CF33-499A-BEFC-F80369EB3D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7DD74-331B-4CF5-892E-4FD90F6E4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F5F143-9E83-4856-A3B0-A0821DC9BE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B3187D-A4E3-445D-99C4-825DB5FA5F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65AD1F3-94EF-4B68-8FE4-B6956D0B2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352C27-990A-4B54-8F25-417BF12D08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1BB8C8-E3D7-4556-8624-07C4E3023A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219ABC-60F9-415A-91F8-4E39A2B574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A768FC-E3D9-48FD-BF16-B5E887070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A24BF-1A16-4BDA-81F2-3218164BF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60A0D0-2CEA-49A0-8621-B5D4F45B4E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B1FCF5-9D06-49D7-A504-EDE15339DC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41E218-51D1-41A5-9FB2-A991AE1A4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458DA-D8CC-44DE-BC3A-D0BD06D08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C5F89-8505-4AC5-BE6C-D163436AC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E5D19B5-16D3-4031-A4F2-1E12C85740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5090B1-1401-4D4F-B72A-4C2D9C1E70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62AB32-D489-4BE0-BADD-C619FF0079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4D0FA7-454D-4013-A6AB-2DA9A57522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9A6816-96D0-411A-96BB-D9AC74221C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2FBE84-2263-4A1F-860A-08EEA75EA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0FDE4-3974-4BA1-9871-AF23351D2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AF1B78-D1B3-4372-86EC-A72C30604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1A62ED-F65B-44E7-8612-08C7BBC0A0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894EBC-AA88-4E90-8566-2C9246D9BB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6B7E7B-0AC4-4CFE-A127-E003019FF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ECB3BAE-8153-4FA2-AD36-2352F6DB9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1ED629-9829-4375-8684-BD8463D1CB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CBD0E-711E-4038-ADD0-B2E195AB6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CCD180-878E-44E4-A033-0CC259800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53C2B3-C80B-49FA-8E3D-ACB9D2D628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8FC106-B7DE-4F04-B33A-E1C669A458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64DD118-6A03-4B7F-BBCE-168907F467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D310AF7-A453-4E2D-B98E-9322E0CA07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29ACB23-D434-454D-B4B5-7443C2709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4FB94C9-DC6B-4FBE-BA59-AF81C6ADC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D84F196-2252-4763-8180-28F18C18C6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0F42C93-7B01-418E-83CC-5449EB7FE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899C579-A168-45DD-86E2-EFEF8D30BF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FC77015-B752-44E0-805A-E97C8A1D5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4B7BEEF-D662-422B-BABA-9302162309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CF46B93-F659-4D68-95A4-C5827EE4A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4BE9808-47E2-4990-931A-C6123B2051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8741876-C2E8-473C-921A-27909EA511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2377F0F-2D52-43BD-8BC9-5E5ED9FBDA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2A96D0A-CC4C-4EA4-8C7C-D2CB77564E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FC94588-5444-4130-97D5-7BC01D03B6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F5E8576-1895-4D0C-8DD4-F429922929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E81E-39EE-449B-BE85-3A704FADF0B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5C02-4630-4D4D-B163-C64830A6827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4E73-F6CE-44C2-AB39-42B505595F7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38D9-4936-4F04-B692-BCB60C02231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1E51-7CB6-4044-9C8C-AC984CD0D1A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34DF-9F50-4756-8AF9-A5E2B7C36B9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EE53-A944-4FDE-8523-FE5DDD2E099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99F9-6E43-42E2-8CDC-34EADFDFEC9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67CC-61EF-4BC4-BAA5-AEB60F5FAA5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0720" y="249120"/>
            <a:ext cx="8541000" cy="1165320"/>
          </a:xfrm>
          <a:prstGeom prst="rect">
            <a:avLst/>
          </a:prstGeom>
          <a:ln w="0">
            <a:noFill/>
          </a:ln>
        </p:spPr>
      </p:pic>
      <p:pic>
        <p:nvPicPr>
          <p:cNvPr id="395" name="Content Placeholder 4" descr="D_DayImage1.jpg"/>
          <p:cNvPicPr/>
          <p:nvPr/>
        </p:nvPicPr>
        <p:blipFill>
          <a:blip r:embed="rId2"/>
          <a:stretch/>
        </p:blipFill>
        <p:spPr>
          <a:xfrm>
            <a:off x="304920" y="1600200"/>
            <a:ext cx="4038480" cy="3657600"/>
          </a:xfrm>
          <a:prstGeom prst="rect">
            <a:avLst/>
          </a:prstGeom>
          <a:ln w="0">
            <a:noFill/>
          </a:ln>
        </p:spPr>
      </p:pic>
      <p:sp>
        <p:nvSpPr>
          <p:cNvPr id="396" name=""/>
          <p:cNvSpPr txBox="1"/>
          <p:nvPr/>
        </p:nvSpPr>
        <p:spPr>
          <a:xfrm>
            <a:off x="4648320" y="1646280"/>
            <a:ext cx="403848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Allies would have re-grouped, enlisted more troops, and tried again. </a:t>
            </a:r>
            <a:br>
              <a:rPr sz="1800"/>
            </a:br>
            <a:br>
              <a:rPr sz="1800"/>
            </a:br>
            <a:r>
              <a:rPr b="0" lang="en-US" sz="1800" spc="-1" strike="noStrike">
                <a:solidFill>
                  <a:srgbClr val="ffffff"/>
                </a:solidFill>
                <a:latin typeface="Rockwell"/>
              </a:rPr>
              <a:t>England would have been in more danger, but not the US. The Germans simply didn't have the firepower, naval or air power to get their troops to the US. Same thing with the Japanese. </a:t>
            </a:r>
            <a:br>
              <a:rPr sz="1800"/>
            </a:br>
            <a:r>
              <a:rPr b="0" lang="en-US" sz="1800" spc="-1" strike="noStrike">
                <a:solidFill>
                  <a:srgbClr val="ffffff"/>
                </a:solidFill>
                <a:latin typeface="Rockwell"/>
              </a:rPr>
              <a:t> </a:t>
            </a:r>
            <a:endParaRPr b="0" lang="en-US" sz="1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new front would not have been created, and Germany would only have one front to deal with.</a:t>
            </a:r>
            <a:br>
              <a:rPr sz="1800"/>
            </a:br>
            <a:r>
              <a:rPr b="0" lang="en-US" sz="1800" spc="-1" strike="noStrike">
                <a:solidFill>
                  <a:srgbClr val="ffffff"/>
                </a:solidFill>
                <a:latin typeface="Rockwell"/>
              </a:rPr>
              <a:t> </a:t>
            </a:r>
            <a:endParaRPr b="0" lang="en-US" sz="1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Nazi forces would still have control over France. </a:t>
            </a:r>
            <a:endParaRPr b="0" lang="en-US" sz="1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1:22:00Z</dcterms:created>
  <dc:creator>Jonathan McClelland</dc:creator>
  <dc:description/>
  <dc:language>en-US</dc:language>
  <cp:lastModifiedBy>cechuser</cp:lastModifiedBy>
  <dcterms:modified xsi:type="dcterms:W3CDTF">2008-11-20T15:43:50Z</dcterms:modified>
  <cp:revision>11</cp:revision>
  <dc:subject/>
  <dc:title>World War II:</dc:title>
</cp:coreProperties>
</file>