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BEC-F34E-47DD-8867-B6E707EC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596-583E-4A1D-B001-EC0C9729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B1F-A24D-4F72-AC18-B4432A79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994-5C23-46B8-977E-85065867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594-888B-4A6D-A69B-604C797C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4A49-8435-4F7A-AA58-829D3C32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653-59D8-4FF6-8DA7-BA96B7F6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64F6-12B5-4FCB-9191-54BFF7AE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E5FE-8137-4E5A-A854-FD191FCF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3B2-31D5-408E-9491-C7FAD2FD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2692-9335-4B51-B230-A6BF40AC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644-5E29-4182-8F70-47952C4A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2E36-0A00-4255-9F2D-9C5859505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allpapergate.com/data/media/2166/Atomic%20Bomb%20Test%20over%20Water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dn’t have the Atomic Bom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panese military surrenders-event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panese civilian lives are sa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 between Japan and US would continu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tbn0.google.com/images?q=tbn:PaCtQD5QCxSkpM:http://www.wallpapergate.com/data/media/2166/Atomic%2520Bomb%2520Test%2520over%2520Wa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828800"/>
            <a:ext cx="38098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22:00Z</dcterms:created>
  <dc:creator>Jonathan McClelland</dc:creator>
  <dc:description/>
  <dc:language>en-US</dc:language>
  <cp:lastModifiedBy>cechuser</cp:lastModifiedBy>
  <dcterms:modified xsi:type="dcterms:W3CDTF">2008-11-20T15:42:27Z</dcterms:modified>
  <cp:revision>11</cp:revision>
  <dc:subject/>
  <dc:title>World War II:</dc:title>
</cp:coreProperties>
</file>