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51A-2A93-42EE-A903-5823C0AA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F9B-5D3A-4989-987B-3523FD65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850-F6EC-435F-A269-CD514556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FF9-4E8E-4E47-9F43-71E32FD3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6A5-389A-4AFB-9345-96CE96A4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C2C-27DA-4013-9F0A-591ED23D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CF0-D5B5-47D6-96C8-E516829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9EC-4CA7-49AB-AD46-A9595A6E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1C3-3C5B-4593-9EF1-7C946C0C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2BB-0C9F-4D06-AA1B-3B64D6F9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71F-1C0F-4101-9426-40301E9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A48-CA9C-4009-B6C5-CC5DD58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E10D-73E7-4EFE-988E-2FF065BE2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allpapergate.com/data/media/2166/Atomic%20Bomb%20Test%20over%20Wat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dn’t have the Atomic Bom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military surrenders-even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civilian lives are sa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 between Japan and US would contin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tbn0.google.com/images?q=tbn:PaCtQD5QCxSkpM:http://www.wallpapergate.com/data/media/2166/Atomic%2520Bomb%2520Test%2520over%2520Wa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2:27Z</dcterms:modified>
  <cp:revision>11</cp:revision>
  <dc:subject/>
  <dc:title>World War II:</dc:title>
</cp:coreProperties>
</file>