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731-BB6C-4320-A013-EFA7AC6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AE4-6860-44C1-AA87-9B24D7B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6CC-6702-43FB-8A92-980F8BC5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477-FC04-4A19-BD1B-50286BCA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447-E149-4EF5-9448-73A425E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A23-25AF-4583-AC1B-B855504D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CC3-5BA2-479F-A3A3-7068A6B7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BC3-ABA2-4159-A3DD-B28F867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9DE-DD02-429E-9E98-9B869CE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88B-7E30-42AA-AED7-6412410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ACA-F55C-49C3-9758-DF45AEC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D79-B134-4D1E-895C-11B5F33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400-FC7D-4DA7-AC0B-2C791F510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llpapergate.com/data/media/2166/Atomic%20Bomb%20Test%20over%20Wat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dn’t have the Atomic Bom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ilitary surrenders-even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civilian lives are sa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 between Japan and US would contin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bn0.google.com/images?q=tbn:PaCtQD5QCxSkpM:http://www.wallpapergate.com/data/media/2166/Atomic%2520Bomb%2520Test%2520over%2520Wa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2:27Z</dcterms:modified>
  <cp:revision>11</cp:revision>
  <dc:subject/>
  <dc:title>World War II:</dc:title>
</cp:coreProperties>
</file>