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264-9412-4307-98CE-FE5E76B0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103-5658-408C-B9F1-D1C25A2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548-2266-46AE-BBC2-2D4E3D08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140-00DF-40F1-B09F-2F76DC26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928-0C3C-475C-973D-706B280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EE2-6BD5-4BA1-A058-CCE05D51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A7-3598-47D3-8D19-E84D01D1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E32-9C56-48EC-A2E1-BAF352F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D81-F4E2-4006-A15F-FAAE3729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020-A2D3-436B-90E1-B637C49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FD2-36D4-4534-B184-3A31969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618-1D10-4972-B561-8C7DB47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DB6-D7E3-4054-9AAA-FF5C4B72E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llpapergate.com/data/media/2166/Atomic%20Bomb%20Test%20over%20Wat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dn’t have the Atomic Bom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ilitary surrenders-even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civilian lives are sa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 between Japan and US would contin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bn0.google.com/images?q=tbn:PaCtQD5QCxSkpM:http://www.wallpapergate.com/data/media/2166/Atomic%2520Bomb%2520Test%2520over%2520Wa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2:27Z</dcterms:modified>
  <cp:revision>11</cp:revision>
  <dc:subject/>
  <dc:title>World War II:</dc:title>
</cp:coreProperties>
</file>