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eback.wav" ContentType="audio/x-wav"/>
  <Override PartName="/ppt/media/image15.gif" ContentType="image/gif"/>
  <Override PartName="/ppt/media/ZZZZ.wav" ContentType="audio/x-wav"/>
  <Override PartName="/ppt/media/image12.png" ContentType="image/png"/>
  <Override PartName="/ppt/media/bark.wav" ContentType="audio/x-wav"/>
  <Override PartName="/ppt/media/image14.png" ContentType="image/png"/>
  <Override PartName="/ppt/media/image11.gif" ContentType="image/gif"/>
  <Override PartName="/ppt/media/image10.png" ContentType="image/png"/>
  <Override PartName="/ppt/media/yuck.wav" ContentType="audio/x-wav"/>
  <Override PartName="/ppt/media/image16.png" ContentType="image/png"/>
  <Override PartName="/ppt/media/rattler.wav" ContentType="audio/x-wav"/>
  <Override PartName="/ppt/media/clap.wav" ContentType="audio/x-wav"/>
  <Override PartName="/ppt/media/image21.png" ContentType="image/png"/>
  <Override PartName="/ppt/media/dragnet.wav" ContentType="audio/x-wav"/>
  <Override PartName="/ppt/media/image9.jpeg" ContentType="image/jpeg"/>
  <Override PartName="/ppt/media/Oooooh.wav" ContentType="audio/x-wav"/>
  <Override PartName="/ppt/media/beatlesbeep.wav" ContentType="audio/x-wav"/>
  <Override PartName="/ppt/media/image30.png" ContentType="image/png"/>
  <Override PartName="/ppt/media/image1.png" ContentType="image/png"/>
  <Override PartName="/ppt/media/image13.png" ContentType="image/png"/>
  <Override PartName="/ppt/media/laugh1.wav" ContentType="audio/x-wav"/>
  <Override PartName="/ppt/media/image2.png" ContentType="image/png"/>
  <Override PartName="/ppt/media/papercrumple.wav" ContentType="audio/x-wav"/>
  <Override PartName="/ppt/media/yummy.wav" ContentType="audio/x-wav"/>
  <Override PartName="/ppt/media/image8.png" ContentType="image/png"/>
  <Override PartName="/ppt/media/wham-hommer.wav" ContentType="audio/x-wav"/>
  <Override PartName="/ppt/media/GetGoing.wav" ContentType="audio/x-wav"/>
  <Override PartName="/ppt/media/image20.png" ContentType="image/png"/>
  <Override PartName="/ppt/media/boing1.wav" ContentType="audio/x-wav"/>
  <Override PartName="/ppt/media/whistle-blow.wav" ContentType="audio/x-wav"/>
  <Override PartName="/ppt/media/image25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whoosh.wav" ContentType="audio/x-wav"/>
  <Override PartName="/ppt/media/image28.png" ContentType="image/png"/>
  <Override PartName="/ppt/media/image5.png" ContentType="image/png"/>
  <Override PartName="/ppt/media/image26.png" ContentType="image/png"/>
  <Override PartName="/ppt/media/dram-key.wav" ContentType="audio/x-wav"/>
  <Override PartName="/ppt/media/alarmbuzzer.wav" ContentType="audio/x-wav"/>
  <Override PartName="/ppt/media/image3.png" ContentType="image/png"/>
  <Override PartName="/ppt/media/GASP.wav" ContentType="audio/x-wav"/>
  <Override PartName="/ppt/media/ouch1.wav" ContentType="audio/x-wav"/>
  <Override PartName="/ppt/media/image29.png" ContentType="image/png"/>
  <Override PartName="/ppt/media/image18.png" ContentType="image/png"/>
  <Override PartName="/ppt/media/splash3.wav" ContentType="audio/x-wav"/>
  <Override PartName="/ppt/media/quack.wav" ContentType="audio/x-wav"/>
  <Override PartName="/ppt/media/image17.png" ContentType="image/png"/>
  <Override PartName="/ppt/media/image7.png" ContentType="image/png"/>
  <Override PartName="/ppt/media/hmm.wav" ContentType="audio/x-wav"/>
  <Override PartName="/ppt/media/image6.png" ContentType="image/png"/>
  <Override PartName="/ppt/media/delicious.wav" ContentType="audio/x-wav"/>
  <Override PartName="/ppt/media/MEOW.WAV" ContentType="audio/x-wav"/>
  <Override PartName="/ppt/media/image24.jpeg" ContentType="image/jpeg"/>
  <Override PartName="/ppt/media/image22.png" ContentType="image/png"/>
  <Override PartName="/ppt/media/image23.png" ContentType="image/png"/>
  <Override PartName="/ppt/media/pu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19B-4EB9-4E65-ABD2-0F0ECBF1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74C-7A4F-476E-86BB-6F87E55A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112-A6FD-4D49-B6C9-27C366AB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689-0FBF-43B2-8EDD-9FBB96F6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65B5-6D30-41B1-AF5C-9A576B1D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397F-4AD0-4E9A-96C4-949ABBA4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28A5-6D82-469F-8C05-F51F6DF8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E89B-04F1-4A36-8D9E-C8069057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64A3-F345-4324-A485-82070A16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DD80-8B82-4675-8752-485D172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BEB1-2777-45F3-B067-1DA27336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CA4-D27E-4EA7-BD80-638FBAF3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C7BE-844C-4483-8E31-590A6959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D497-901D-4212-9857-C639D7E9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FD19-7B48-4A0A-8F6A-CFAC8870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7061-CF5B-480D-B825-BFA657AC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E960-5237-4BA0-94C3-2C207081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4E8-0B00-46A1-8149-F6AF10C2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65A-6FF8-4574-8A46-F0BBEC51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2D5-9D49-4026-8FBA-A4250C74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C5D-3B65-41D3-96FC-95908C18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469-AC6B-472B-BA4F-AF7D5938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492-E1F6-4AE2-97EC-BDB9B35F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7CE-EEAC-45AC-9FDF-85471BA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27B1-D67A-4FA8-864E-7DF6096F8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510D-9BC7-4843-8F07-4388DB76A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beatlesbeep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yuck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eback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GetGoin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quack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EOW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papercrumple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ouch1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splash3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boing1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whistle-blow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Oooooh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yummy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eliciou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alarmbuzzer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dram-key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GASP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rattler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rsalphabet.com/wordfamilies.html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ugh1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wham-ho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ar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hmm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agnet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Word Families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3419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28101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atles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047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78748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116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29528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095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b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78748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357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etG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278748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qu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333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ua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46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6766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apercrump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0908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u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020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las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33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76552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6528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-b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273204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Dropped Ball - Custom Online Embroidery Design"/>
          <p:cNvPicPr/>
          <p:nvPr/>
        </p:nvPicPr>
        <p:blipFill>
          <a:blip r:embed="rId1"/>
          <a:stretch/>
        </p:blipFill>
        <p:spPr>
          <a:xfrm>
            <a:off x="5410080" y="1828800"/>
            <a:ext cx="2714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ooo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5146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umm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17146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ZZ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733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licio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124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95480" y="4267080"/>
            <a:ext cx="30481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m-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56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S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2743200"/>
            <a:ext cx="1828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k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333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att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7748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380880" y="152280"/>
            <a:ext cx="8991360" cy="12193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you read these wor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ore Word Famil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/>
          </p:cNvPr>
          <p:cNvSpPr/>
          <p:nvPr/>
        </p:nvSpPr>
        <p:spPr>
          <a:xfrm>
            <a:off x="3124080" y="3505320"/>
            <a:ext cx="2971800" cy="1676160"/>
          </a:xfrm>
          <a:custGeom>
            <a:avLst/>
            <a:gdLst>
              <a:gd name="textAreaLeft" fmla="*/ 233280 w 2971800"/>
              <a:gd name="textAreaRight" fmla="*/ 2738520 w 2971800"/>
              <a:gd name="textAreaTop" fmla="*/ 233280 h 1676160"/>
              <a:gd name="textAreaBottom" fmla="*/ 1442880 h 1676160"/>
            </a:gdLst>
            <a:ahLst/>
            <a:rect l="textAreaLeft" t="textAreaTop" r="textAreaRight" b="textAreaBottom"/>
            <a:pathLst>
              <a:path w="38293" h="21600">
                <a:moveTo>
                  <a:pt x="0" y="0"/>
                </a:moveTo>
                <a:lnTo>
                  <a:pt x="38293" y="0"/>
                </a:lnTo>
                <a:lnTo>
                  <a:pt x="38293" y="21600"/>
                </a:lnTo>
                <a:lnTo>
                  <a:pt x="0" y="21600"/>
                </a:lnTo>
                <a:close/>
              </a:path>
              <a:path fill="lightenLess" w="38293" h="21600">
                <a:moveTo>
                  <a:pt x="0" y="0"/>
                </a:moveTo>
                <a:lnTo>
                  <a:pt x="38293" y="0"/>
                </a:lnTo>
                <a:lnTo>
                  <a:pt x="35286" y="3007"/>
                </a:lnTo>
                <a:lnTo>
                  <a:pt x="3007" y="3007"/>
                </a:lnTo>
                <a:close/>
              </a:path>
              <a:path fill="darken" w="38293" h="21600">
                <a:moveTo>
                  <a:pt x="38293" y="0"/>
                </a:moveTo>
                <a:lnTo>
                  <a:pt x="38293" y="21600"/>
                </a:lnTo>
                <a:lnTo>
                  <a:pt x="35286" y="18593"/>
                </a:lnTo>
                <a:lnTo>
                  <a:pt x="35286" y="3007"/>
                </a:lnTo>
                <a:close/>
              </a:path>
              <a:path fill="darkenLess" w="38293" h="21600">
                <a:moveTo>
                  <a:pt x="38293" y="21600"/>
                </a:moveTo>
                <a:lnTo>
                  <a:pt x="0" y="21600"/>
                </a:lnTo>
                <a:lnTo>
                  <a:pt x="3007" y="18593"/>
                </a:lnTo>
                <a:lnTo>
                  <a:pt x="35286" y="18593"/>
                </a:lnTo>
                <a:close/>
              </a:path>
              <a:path fill="lighten" w="38293" h="21600">
                <a:moveTo>
                  <a:pt x="0" y="21600"/>
                </a:moveTo>
                <a:lnTo>
                  <a:pt x="0" y="0"/>
                </a:lnTo>
                <a:lnTo>
                  <a:pt x="3007" y="3007"/>
                </a:lnTo>
                <a:lnTo>
                  <a:pt x="3007" y="1859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72280" y="3897360"/>
            <a:ext cx="919080" cy="797040"/>
          </a:xfrm>
          <a:custGeom>
            <a:avLst/>
            <a:gdLst/>
            <a:ahLst/>
            <a:rect l="l" t="t" r="r" b="b"/>
            <a:pathLst>
              <a:path w="579" h="502">
                <a:moveTo>
                  <a:pt x="526" y="461"/>
                </a:moveTo>
                <a:cubicBezTo>
                  <a:pt x="532" y="420"/>
                  <a:pt x="532" y="392"/>
                  <a:pt x="555" y="359"/>
                </a:cubicBezTo>
                <a:cubicBezTo>
                  <a:pt x="573" y="309"/>
                  <a:pt x="565" y="330"/>
                  <a:pt x="577" y="294"/>
                </a:cubicBezTo>
                <a:cubicBezTo>
                  <a:pt x="575" y="245"/>
                  <a:pt x="579" y="196"/>
                  <a:pt x="570" y="148"/>
                </a:cubicBezTo>
                <a:cubicBezTo>
                  <a:pt x="568" y="139"/>
                  <a:pt x="554" y="139"/>
                  <a:pt x="548" y="133"/>
                </a:cubicBezTo>
                <a:cubicBezTo>
                  <a:pt x="542" y="127"/>
                  <a:pt x="540" y="116"/>
                  <a:pt x="533" y="111"/>
                </a:cubicBezTo>
                <a:cubicBezTo>
                  <a:pt x="527" y="106"/>
                  <a:pt x="518" y="108"/>
                  <a:pt x="511" y="104"/>
                </a:cubicBezTo>
                <a:cubicBezTo>
                  <a:pt x="447" y="69"/>
                  <a:pt x="401" y="19"/>
                  <a:pt x="329" y="2"/>
                </a:cubicBezTo>
                <a:cubicBezTo>
                  <a:pt x="266" y="4"/>
                  <a:pt x="202" y="0"/>
                  <a:pt x="139" y="9"/>
                </a:cubicBezTo>
                <a:cubicBezTo>
                  <a:pt x="115" y="12"/>
                  <a:pt x="118" y="39"/>
                  <a:pt x="110" y="53"/>
                </a:cubicBezTo>
                <a:cubicBezTo>
                  <a:pt x="102" y="68"/>
                  <a:pt x="91" y="82"/>
                  <a:pt x="81" y="97"/>
                </a:cubicBezTo>
                <a:cubicBezTo>
                  <a:pt x="76" y="104"/>
                  <a:pt x="66" y="119"/>
                  <a:pt x="66" y="119"/>
                </a:cubicBezTo>
                <a:cubicBezTo>
                  <a:pt x="50" y="170"/>
                  <a:pt x="57" y="148"/>
                  <a:pt x="45" y="184"/>
                </a:cubicBezTo>
                <a:cubicBezTo>
                  <a:pt x="39" y="201"/>
                  <a:pt x="15" y="228"/>
                  <a:pt x="15" y="228"/>
                </a:cubicBezTo>
                <a:cubicBezTo>
                  <a:pt x="0" y="291"/>
                  <a:pt x="4" y="358"/>
                  <a:pt x="59" y="396"/>
                </a:cubicBezTo>
                <a:cubicBezTo>
                  <a:pt x="131" y="502"/>
                  <a:pt x="369" y="474"/>
                  <a:pt x="453" y="476"/>
                </a:cubicBezTo>
                <a:cubicBezTo>
                  <a:pt x="478" y="484"/>
                  <a:pt x="526" y="500"/>
                  <a:pt x="526" y="4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80280" y="3962520"/>
            <a:ext cx="60948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0"/>
                </a:moveTo>
                <a:lnTo>
                  <a:pt x="384" y="432"/>
                </a:lnTo>
                <a:lnTo>
                  <a:pt x="336" y="528"/>
                </a:lnTo>
                <a:lnTo>
                  <a:pt x="48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312408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720" y="432"/>
                </a:moveTo>
                <a:lnTo>
                  <a:pt x="1152" y="672"/>
                </a:lnTo>
                <a:lnTo>
                  <a:pt x="1104" y="720"/>
                </a:lnTo>
                <a:lnTo>
                  <a:pt x="0" y="0"/>
                </a:lnTo>
                <a:lnTo>
                  <a:pt x="816" y="4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14800" y="1828800"/>
          <a:ext cx="43578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43578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am-ho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371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26672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r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3335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und out these w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743200"/>
            <a:ext cx="1143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2743200"/>
            <a:ext cx="228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1860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agn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2:32:36Z</dcterms:created>
  <dc:creator>Connie Campbell</dc:creator>
  <dc:description/>
  <dc:language>en-US</dc:language>
  <cp:lastModifiedBy>Connie Campbell</cp:lastModifiedBy>
  <dcterms:modified xsi:type="dcterms:W3CDTF">2007-05-30T01:41:20Z</dcterms:modified>
  <cp:revision>5</cp:revision>
  <dc:subject/>
  <dc:title>Word Families</dc:title>
</cp:coreProperties>
</file>