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eback.wav" ContentType="audio/x-wav"/>
  <Override PartName="/ppt/media/image15.gif" ContentType="image/gif"/>
  <Override PartName="/ppt/media/ZZZZ.wav" ContentType="audio/x-wav"/>
  <Override PartName="/ppt/media/image12.png" ContentType="image/png"/>
  <Override PartName="/ppt/media/bark.wav" ContentType="audio/x-wav"/>
  <Override PartName="/ppt/media/image14.png" ContentType="image/png"/>
  <Override PartName="/ppt/media/image11.gif" ContentType="image/gif"/>
  <Override PartName="/ppt/media/image10.png" ContentType="image/png"/>
  <Override PartName="/ppt/media/yuck.wav" ContentType="audio/x-wav"/>
  <Override PartName="/ppt/media/image16.png" ContentType="image/png"/>
  <Override PartName="/ppt/media/rattler.wav" ContentType="audio/x-wav"/>
  <Override PartName="/ppt/media/clap.wav" ContentType="audio/x-wav"/>
  <Override PartName="/ppt/media/image21.png" ContentType="image/png"/>
  <Override PartName="/ppt/media/dragnet.wav" ContentType="audio/x-wav"/>
  <Override PartName="/ppt/media/image9.jpeg" ContentType="image/jpeg"/>
  <Override PartName="/ppt/media/Oooooh.wav" ContentType="audio/x-wav"/>
  <Override PartName="/ppt/media/beatlesbeep.wav" ContentType="audio/x-wav"/>
  <Override PartName="/ppt/media/image30.png" ContentType="image/png"/>
  <Override PartName="/ppt/media/image1.png" ContentType="image/png"/>
  <Override PartName="/ppt/media/image13.png" ContentType="image/png"/>
  <Override PartName="/ppt/media/laugh1.wav" ContentType="audio/x-wav"/>
  <Override PartName="/ppt/media/image2.png" ContentType="image/png"/>
  <Override PartName="/ppt/media/papercrumple.wav" ContentType="audio/x-wav"/>
  <Override PartName="/ppt/media/yummy.wav" ContentType="audio/x-wav"/>
  <Override PartName="/ppt/media/image8.png" ContentType="image/png"/>
  <Override PartName="/ppt/media/wham-hommer.wav" ContentType="audio/x-wav"/>
  <Override PartName="/ppt/media/GetGoing.wav" ContentType="audio/x-wav"/>
  <Override PartName="/ppt/media/image20.png" ContentType="image/png"/>
  <Override PartName="/ppt/media/boing1.wav" ContentType="audio/x-wav"/>
  <Override PartName="/ppt/media/whistle-blow.wav" ContentType="audio/x-wav"/>
  <Override PartName="/ppt/media/image25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whoosh.wav" ContentType="audio/x-wav"/>
  <Override PartName="/ppt/media/image28.png" ContentType="image/png"/>
  <Override PartName="/ppt/media/image5.png" ContentType="image/png"/>
  <Override PartName="/ppt/media/image26.png" ContentType="image/png"/>
  <Override PartName="/ppt/media/dram-key.wav" ContentType="audio/x-wav"/>
  <Override PartName="/ppt/media/alarmbuzzer.wav" ContentType="audio/x-wav"/>
  <Override PartName="/ppt/media/image3.png" ContentType="image/png"/>
  <Override PartName="/ppt/media/GASP.wav" ContentType="audio/x-wav"/>
  <Override PartName="/ppt/media/ouch1.wav" ContentType="audio/x-wav"/>
  <Override PartName="/ppt/media/image29.png" ContentType="image/png"/>
  <Override PartName="/ppt/media/image18.png" ContentType="image/png"/>
  <Override PartName="/ppt/media/splash3.wav" ContentType="audio/x-wav"/>
  <Override PartName="/ppt/media/quack.wav" ContentType="audio/x-wav"/>
  <Override PartName="/ppt/media/image17.png" ContentType="image/png"/>
  <Override PartName="/ppt/media/image7.png" ContentType="image/png"/>
  <Override PartName="/ppt/media/hmm.wav" ContentType="audio/x-wav"/>
  <Override PartName="/ppt/media/image6.png" ContentType="image/png"/>
  <Override PartName="/ppt/media/delicious.wav" ContentType="audio/x-wav"/>
  <Override PartName="/ppt/media/MEOW.WAV" ContentType="audio/x-wav"/>
  <Override PartName="/ppt/media/image24.jpeg" ContentType="image/jpeg"/>
  <Override PartName="/ppt/media/image22.png" ContentType="image/png"/>
  <Override PartName="/ppt/media/image23.png" ContentType="image/png"/>
  <Override PartName="/ppt/media/push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A33-064F-4974-AC84-D8B229CD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8DD-9F4A-4686-BE05-BAEF341F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AEC-0A2D-4726-BC7D-3D70EA71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FDF-8378-4A70-99E0-E2AD2D02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05C0-2739-48B3-B030-4125B68A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60F8-BD5F-4BC9-99BE-1B50764F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68E9-2069-4880-B830-FD09AE34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72F6-7380-4BDC-A296-2C32B410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3FE2-3210-42C1-9B19-0E6E5F1D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E24D-F2D9-43E2-B2AD-A7BCA677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7FAE-2A29-4107-B7C1-EAF8B876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4FA-C061-4319-9FDF-30E4119A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C31F-D5CA-46B6-984B-96D48069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9A85-674E-4555-BF6A-E3AA64DE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0263-7918-476A-AE3D-CDCFF139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42A1-798E-42DC-BD81-4D148F80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9863-2DF3-416B-965C-FA1EE219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831-52A2-4885-A71F-8AF80991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FD6-D6CD-4B3C-8C18-C4005CA4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CB9-BD72-4502-A9F4-F87E1FD5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E89-6D3B-4D0D-81EA-44FAB576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D29-49A4-46C8-8179-81EEDD76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8E4-3143-471F-AE4F-EC01E026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628-68D3-4E6B-A957-D8835438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D9CC-F596-4A9F-95B1-B3692D127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DEC1-4703-4374-8C8A-C814D9B7E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eatlesbeep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yuck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eback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GetGoing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quack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EOW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papercrumple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ouch1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splash3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boing1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whistle-blow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Oooooh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yummy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deliciou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alarmbuzzer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dram-key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GASP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rattler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rsalphabet.com/wordfamilies.html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ugh1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wham-ho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ar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hmm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agnet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Word Families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3419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7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28101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atles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3047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78748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00800" y="2743200"/>
            <a:ext cx="116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29528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095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b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357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etG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278748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qu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333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46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6766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apercrump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0908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u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2020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las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336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6528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-bl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Dropped Ball - Custom Online Embroidery Design"/>
          <p:cNvPicPr/>
          <p:nvPr/>
        </p:nvPicPr>
        <p:blipFill>
          <a:blip r:embed="rId1"/>
          <a:stretch/>
        </p:blipFill>
        <p:spPr>
          <a:xfrm>
            <a:off x="5410080" y="1828800"/>
            <a:ext cx="2714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ooo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5146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mm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17146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Z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7338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licio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124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95480" y="4267080"/>
            <a:ext cx="30481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m-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562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AS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333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attl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ore Word Famili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/>
          </p:cNvPr>
          <p:cNvSpPr/>
          <p:nvPr/>
        </p:nvSpPr>
        <p:spPr>
          <a:xfrm>
            <a:off x="3124080" y="3505320"/>
            <a:ext cx="2971800" cy="1676160"/>
          </a:xfrm>
          <a:custGeom>
            <a:avLst/>
            <a:gdLst>
              <a:gd name="textAreaLeft" fmla="*/ 233280 w 2971800"/>
              <a:gd name="textAreaRight" fmla="*/ 2738520 w 2971800"/>
              <a:gd name="textAreaTop" fmla="*/ 233280 h 1676160"/>
              <a:gd name="textAreaBottom" fmla="*/ 1442880 h 1676160"/>
            </a:gdLst>
            <a:ahLst/>
            <a:rect l="textAreaLeft" t="textAreaTop" r="textAreaRight" b="textAreaBottom"/>
            <a:pathLst>
              <a:path w="38293" h="21600">
                <a:moveTo>
                  <a:pt x="0" y="0"/>
                </a:moveTo>
                <a:lnTo>
                  <a:pt x="38293" y="0"/>
                </a:lnTo>
                <a:lnTo>
                  <a:pt x="38293" y="21600"/>
                </a:lnTo>
                <a:lnTo>
                  <a:pt x="0" y="21600"/>
                </a:lnTo>
                <a:close/>
              </a:path>
              <a:path fill="lightenLess" w="38293" h="21600">
                <a:moveTo>
                  <a:pt x="0" y="0"/>
                </a:moveTo>
                <a:lnTo>
                  <a:pt x="38293" y="0"/>
                </a:lnTo>
                <a:lnTo>
                  <a:pt x="35286" y="3007"/>
                </a:lnTo>
                <a:lnTo>
                  <a:pt x="3007" y="3007"/>
                </a:lnTo>
                <a:close/>
              </a:path>
              <a:path fill="darken" w="38293" h="21600">
                <a:moveTo>
                  <a:pt x="38293" y="0"/>
                </a:moveTo>
                <a:lnTo>
                  <a:pt x="38293" y="21600"/>
                </a:lnTo>
                <a:lnTo>
                  <a:pt x="35286" y="18593"/>
                </a:lnTo>
                <a:lnTo>
                  <a:pt x="35286" y="3007"/>
                </a:lnTo>
                <a:close/>
              </a:path>
              <a:path fill="darkenLess" w="38293" h="21600">
                <a:moveTo>
                  <a:pt x="38293" y="21600"/>
                </a:moveTo>
                <a:lnTo>
                  <a:pt x="0" y="21600"/>
                </a:lnTo>
                <a:lnTo>
                  <a:pt x="3007" y="18593"/>
                </a:lnTo>
                <a:lnTo>
                  <a:pt x="35286" y="18593"/>
                </a:lnTo>
                <a:close/>
              </a:path>
              <a:path fill="lighten" w="38293" h="21600">
                <a:moveTo>
                  <a:pt x="0" y="21600"/>
                </a:moveTo>
                <a:lnTo>
                  <a:pt x="0" y="0"/>
                </a:lnTo>
                <a:lnTo>
                  <a:pt x="3007" y="3007"/>
                </a:lnTo>
                <a:lnTo>
                  <a:pt x="3007" y="1859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72280" y="3897360"/>
            <a:ext cx="919080" cy="797040"/>
          </a:xfrm>
          <a:custGeom>
            <a:avLst/>
            <a:gdLst/>
            <a:ahLst/>
            <a:rect l="l" t="t" r="r" b="b"/>
            <a:pathLst>
              <a:path w="579" h="502">
                <a:moveTo>
                  <a:pt x="526" y="461"/>
                </a:moveTo>
                <a:cubicBezTo>
                  <a:pt x="532" y="420"/>
                  <a:pt x="532" y="392"/>
                  <a:pt x="555" y="359"/>
                </a:cubicBezTo>
                <a:cubicBezTo>
                  <a:pt x="573" y="309"/>
                  <a:pt x="565" y="330"/>
                  <a:pt x="577" y="294"/>
                </a:cubicBezTo>
                <a:cubicBezTo>
                  <a:pt x="575" y="245"/>
                  <a:pt x="579" y="196"/>
                  <a:pt x="570" y="148"/>
                </a:cubicBezTo>
                <a:cubicBezTo>
                  <a:pt x="568" y="139"/>
                  <a:pt x="554" y="139"/>
                  <a:pt x="548" y="133"/>
                </a:cubicBezTo>
                <a:cubicBezTo>
                  <a:pt x="542" y="127"/>
                  <a:pt x="540" y="116"/>
                  <a:pt x="533" y="111"/>
                </a:cubicBezTo>
                <a:cubicBezTo>
                  <a:pt x="527" y="106"/>
                  <a:pt x="518" y="108"/>
                  <a:pt x="511" y="104"/>
                </a:cubicBezTo>
                <a:cubicBezTo>
                  <a:pt x="447" y="69"/>
                  <a:pt x="401" y="19"/>
                  <a:pt x="329" y="2"/>
                </a:cubicBezTo>
                <a:cubicBezTo>
                  <a:pt x="266" y="4"/>
                  <a:pt x="202" y="0"/>
                  <a:pt x="139" y="9"/>
                </a:cubicBezTo>
                <a:cubicBezTo>
                  <a:pt x="115" y="12"/>
                  <a:pt x="118" y="39"/>
                  <a:pt x="110" y="53"/>
                </a:cubicBezTo>
                <a:cubicBezTo>
                  <a:pt x="102" y="68"/>
                  <a:pt x="91" y="82"/>
                  <a:pt x="81" y="97"/>
                </a:cubicBezTo>
                <a:cubicBezTo>
                  <a:pt x="76" y="104"/>
                  <a:pt x="66" y="119"/>
                  <a:pt x="66" y="119"/>
                </a:cubicBezTo>
                <a:cubicBezTo>
                  <a:pt x="50" y="170"/>
                  <a:pt x="57" y="148"/>
                  <a:pt x="45" y="184"/>
                </a:cubicBezTo>
                <a:cubicBezTo>
                  <a:pt x="39" y="201"/>
                  <a:pt x="15" y="228"/>
                  <a:pt x="15" y="228"/>
                </a:cubicBezTo>
                <a:cubicBezTo>
                  <a:pt x="0" y="291"/>
                  <a:pt x="4" y="358"/>
                  <a:pt x="59" y="396"/>
                </a:cubicBezTo>
                <a:cubicBezTo>
                  <a:pt x="131" y="502"/>
                  <a:pt x="369" y="474"/>
                  <a:pt x="453" y="476"/>
                </a:cubicBezTo>
                <a:cubicBezTo>
                  <a:pt x="478" y="484"/>
                  <a:pt x="526" y="500"/>
                  <a:pt x="526" y="4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80280" y="396252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0"/>
                </a:moveTo>
                <a:lnTo>
                  <a:pt x="384" y="432"/>
                </a:lnTo>
                <a:lnTo>
                  <a:pt x="336" y="528"/>
                </a:lnTo>
                <a:lnTo>
                  <a:pt x="48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312408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720" y="432"/>
                </a:moveTo>
                <a:lnTo>
                  <a:pt x="1152" y="672"/>
                </a:lnTo>
                <a:lnTo>
                  <a:pt x="1104" y="720"/>
                </a:lnTo>
                <a:lnTo>
                  <a:pt x="0" y="0"/>
                </a:lnTo>
                <a:lnTo>
                  <a:pt x="816" y="4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114800" y="1828800"/>
          <a:ext cx="43578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43578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am-ho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371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26672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333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1860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gn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2:32:36Z</dcterms:created>
  <dc:creator>Connie Campbell</dc:creator>
  <dc:description/>
  <dc:language>en-US</dc:language>
  <cp:lastModifiedBy>Connie Campbell</cp:lastModifiedBy>
  <dcterms:modified xsi:type="dcterms:W3CDTF">2007-05-30T01:41:20Z</dcterms:modified>
  <cp:revision>5</cp:revision>
  <dc:subject/>
  <dc:title>Word Families</dc:title>
</cp:coreProperties>
</file>