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F074-9189-42A3-8CB7-1EB326FC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B35-C82F-47CA-9F4E-BE717FD7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8B8-CE76-46E1-919D-282389E7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1D9-A4CB-49E3-A1A4-02F4065F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914-3991-4520-A4DB-42D7A785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4E3-C6C0-4EBF-A1C3-21305827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2FC-8DD2-4414-8DEF-24D55AB0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CAA-802E-4EAA-A1B5-025808D2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421-0920-46FC-B29E-F342190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7A5-565F-4228-A444-A860C1B1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B4B-906E-4EF6-92A0-A06161E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855-5EA8-4DF8-A13B-AB99CB52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9A9-FB02-48BB-82BC-9F5070D8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7812-78D2-42C2-9E6C-C9E2B76E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37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rap-Up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990720"/>
          <a:ext cx="10363320" cy="780732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1800"/>
                <a:gridCol w="20732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di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tra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d Problem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ch is Mor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6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8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380880"/>
            <a:ext cx="70866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am wants to buy a toy that cost $5.00.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He has a $10 bill.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How much change will he get back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52280" y="137160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dy has $4.00 and she wants to buy 3 pieces of cand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t cost 25 cents each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money will she hav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25780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3.2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5084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mmy has $6.50 and he wants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y a car for $11.75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money does Tom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ed to borrow from him mom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5.2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04920" y="838080"/>
            <a:ext cx="9845640" cy="37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Alyssa goes to a movie with her frien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ally.  They want to buy popcorn and 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ink each.  Alyssa has $11.00 and Sally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has $4.25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opcorn costs $3.25 and a drink costs $2.50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If they put their money together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How much change will they receive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3.7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8360" y="4191120"/>
            <a:ext cx="8317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3 dimes + 1 nickel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3560" y="609480"/>
            <a:ext cx="8847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 dimes + 2 nicke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2096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861048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251240"/>
            <a:ext cx="8381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3 quarters + 1 di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3623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610480" cy="152424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400" y="457200"/>
            <a:ext cx="859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6 pennies + 8 dim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809880"/>
            <a:ext cx="9372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 quarters + 1 nickel + 1 dime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438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1920" y="990720"/>
            <a:ext cx="8984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 quarters + 2 pennies + 1 nick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69120" y="3886200"/>
            <a:ext cx="9239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10 dimes + 40 nickel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33520"/>
            <a:ext cx="883908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24987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1400" y="609480"/>
            <a:ext cx="8794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6 quarters + 5 dim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733920"/>
            <a:ext cx="914400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4572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3 + 4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8148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4560" y="1600200"/>
            <a:ext cx="4475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40 + 60 =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10080" y="160020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676520"/>
            <a:ext cx="42102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3 + 45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920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68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760" y="1752480"/>
            <a:ext cx="52707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25 + 356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48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1295280"/>
            <a:ext cx="37058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30 - 5 =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279440"/>
            <a:ext cx="25905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1278000"/>
            <a:ext cx="3440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1 - 3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2193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1278000"/>
            <a:ext cx="3440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9 - 9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1295280"/>
            <a:ext cx="25905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523880"/>
            <a:ext cx="39708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60 - 31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152388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Devin Sullivan</cp:lastModifiedBy>
  <dcterms:modified xsi:type="dcterms:W3CDTF">2008-11-07T19:34:01Z</dcterms:modified>
  <cp:revision>18</cp:revision>
  <dc:subject/>
  <dc:title>Slide 1</dc:title>
</cp:coreProperties>
</file>