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1094-D638-48A1-8C63-0CD22E8F7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F4B1-C21C-46C8-89F3-882769A8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0EBA-AAD4-4AE3-A0ED-2B22F17E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30C7-FF28-40C7-BAAB-478CEEF9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39D4-BE90-4BB3-A038-5891E8AE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5EC3-5B9E-4CC8-A7FB-09808E20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30D7-1F10-4941-A578-E07B2778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78FC-7563-4F9D-AE10-D3D12022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651A-F362-47F4-85EF-96FB1673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ECA6-96ED-4DE6-B860-C0C449EA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02DE-387B-4BB8-A043-BF474AC5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26EF-EDD5-44C6-BEFB-97D2A1F4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3EFF-DC8D-4A01-9EFD-F44729AB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A9EE-343D-42A4-B532-16EDA31E7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4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5.xml"/><Relationship Id="rId9" Type="http://schemas.openxmlformats.org/officeDocument/2006/relationships/slide" Target="slide9.xml"/><Relationship Id="rId10" Type="http://schemas.openxmlformats.org/officeDocument/2006/relationships/slide" Target="slide9.xml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13372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rap-Up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38080" y="990720"/>
          <a:ext cx="10363320" cy="7807320"/>
        </p:xfrm>
        <a:graphic>
          <a:graphicData uri="http://schemas.openxmlformats.org/drawingml/2006/table">
            <a:tbl>
              <a:tblPr/>
              <a:tblGrid>
                <a:gridCol w="2073240"/>
                <a:gridCol w="2071800"/>
                <a:gridCol w="2073240"/>
                <a:gridCol w="2071800"/>
                <a:gridCol w="207324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dit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btract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rd Problem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ich is More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40</a:t>
                      </a: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6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60</a:t>
                      </a: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8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80</a:t>
                      </a: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80</a:t>
                      </a: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6680" y="380880"/>
            <a:ext cx="70866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Sam wants to buy a toy that cost $5.00. 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He has a $10 bill. 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How much change will he get back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5257800"/>
            <a:ext cx="4496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$5.0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152280" y="1371600"/>
            <a:ext cx="9372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ndy has $4.00 and she wants to buy 3 pieces of candy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at cost 25 cents each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uch money will she have le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5257800"/>
            <a:ext cx="4495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$3.2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050840"/>
            <a:ext cx="9372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mmy has $6.50 and he wants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y a car for $11.75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uch money does Tom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ed to borrow from him mom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5257800"/>
            <a:ext cx="4496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$5.2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304920" y="838080"/>
            <a:ext cx="9845640" cy="37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Alyssa goes to a movie with her frien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Sally.  They want to buy popcorn and 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ink each.  Alyssa has $11.00 and Sally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has $4.25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Popcorn costs $3.25 and a drink costs $2.50.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If they put their money together.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How much change will they receive?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895480" y="5257800"/>
            <a:ext cx="4496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$3.7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78360" y="4191120"/>
            <a:ext cx="831744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3 dimes + 1 nickel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3560" y="609480"/>
            <a:ext cx="8847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2 dimes + 2 nicke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220968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8610480" cy="1523880"/>
          </a:xfrm>
          <a:prstGeom prst="rect">
            <a:avLst/>
          </a:prstGeom>
          <a:noFill/>
          <a:ln w="57240">
            <a:solidFill>
              <a:srgbClr val="fef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3520" y="4251240"/>
            <a:ext cx="83818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Arial"/>
              </a:rPr>
              <a:t>3 quarters + 1 dim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236232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380880"/>
            <a:ext cx="8610480" cy="1524240"/>
          </a:xfrm>
          <a:prstGeom prst="rect">
            <a:avLst/>
          </a:prstGeom>
          <a:noFill/>
          <a:ln w="57240">
            <a:solidFill>
              <a:srgbClr val="fef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1400" y="457200"/>
            <a:ext cx="8596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Arial"/>
              </a:rPr>
              <a:t>6 pennies + 8 dime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3809880"/>
            <a:ext cx="9372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 quarters + 1 nickel + 1 dime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838080"/>
            <a:ext cx="9144000" cy="1067040"/>
          </a:xfrm>
          <a:prstGeom prst="rect">
            <a:avLst/>
          </a:prstGeom>
          <a:noFill/>
          <a:ln w="57240">
            <a:solidFill>
              <a:srgbClr val="fef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243828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1920" y="990720"/>
            <a:ext cx="8984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 quarters + 2 pennies + 1 nick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69120" y="3886200"/>
            <a:ext cx="92394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Arial"/>
              </a:rPr>
              <a:t>10 dimes + 40 nickel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533520"/>
            <a:ext cx="8839080" cy="1523880"/>
          </a:xfrm>
          <a:prstGeom prst="rect">
            <a:avLst/>
          </a:prstGeom>
          <a:noFill/>
          <a:ln w="57240">
            <a:solidFill>
              <a:srgbClr val="fef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249876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1400" y="609480"/>
            <a:ext cx="8794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Arial"/>
              </a:rPr>
              <a:t>6 quarters + 5 dime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733920"/>
            <a:ext cx="9144000" cy="1523880"/>
          </a:xfrm>
          <a:prstGeom prst="rect">
            <a:avLst/>
          </a:prstGeom>
          <a:noFill/>
          <a:ln w="57240">
            <a:solidFill>
              <a:srgbClr val="fef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3880" y="1752480"/>
            <a:ext cx="4572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13 + 4 =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181480" y="1676520"/>
            <a:ext cx="2590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94560" y="1600200"/>
            <a:ext cx="44755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40 + 60 =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10080" y="1600200"/>
            <a:ext cx="2590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19320" y="1676520"/>
            <a:ext cx="42102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23 + 45 =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29200" y="1676520"/>
            <a:ext cx="2590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68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8760" y="1752480"/>
            <a:ext cx="52707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125 + 356 =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1676520"/>
            <a:ext cx="2590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481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52480" y="1295280"/>
            <a:ext cx="370584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30 - 5 =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1279440"/>
            <a:ext cx="25905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05120" y="1278000"/>
            <a:ext cx="34405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21 - 3 =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1219320"/>
            <a:ext cx="2590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09680" y="1278000"/>
            <a:ext cx="34405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29 - 9 =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1295280"/>
            <a:ext cx="25905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71600" y="1523880"/>
            <a:ext cx="39708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60 - 31 =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1523880"/>
            <a:ext cx="25909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Devin Sullivan</cp:lastModifiedBy>
  <dcterms:modified xsi:type="dcterms:W3CDTF">2008-11-07T19:34:01Z</dcterms:modified>
  <cp:revision>18</cp:revision>
  <dc:subject/>
  <dc:title>Slide 1</dc:title>
</cp:coreProperties>
</file>