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F88D-3A04-42D9-A330-2574686E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D2F-0C1F-40B3-8247-E1E8CB92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CD3-B5C7-44B4-8690-917DFE7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E8A-0060-47E4-983E-1EA00D78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D14-A885-4A18-9B6C-EE28BDF7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9F1-5C11-4888-8C47-3E7B6D83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EC1-479E-4C4D-8A1E-9995C11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A03-351F-4916-B52E-0C26675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F18-3DBC-43B7-82C7-DD5A096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419-F01E-4600-A4B3-3C012B62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A1E-663A-4737-A171-4B3D996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D95-4645-45D7-A5F7-96F5C3A3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269-48EE-4820-9026-E239159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9D5-6AC1-4BFE-B54A-55ADFD0D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rap-Up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990720"/>
          <a:ext cx="10363320" cy="780732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1800"/>
                <a:gridCol w="20732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di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tra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d Problem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ch is Mo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6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380880"/>
            <a:ext cx="7086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am wants to buy a toy that cost $5.00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e has a $10 bill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ow much change will he get back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52280" y="137160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dy has $4.00 and she wants to buy 3 pieces of cand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t cost 25 cents each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will she hav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2578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5084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my has $6.50 and he want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y a car for $11.75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does Tom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ed to borrow from him mom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04920" y="838080"/>
            <a:ext cx="9845640" cy="37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Alyssa goes to a movie with her frie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ally.  They want to buy popcorn and 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ink each.  Alyssa has $11.00 and Sally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as $4.25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opcorn costs $3.25 and a drink costs $2.50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f they put their money together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ow much change will they receive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7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8360" y="4191120"/>
            <a:ext cx="831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 dimes + 1 nickel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3560" y="609480"/>
            <a:ext cx="8847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 dimes + 2 nicke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2096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86104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251240"/>
            <a:ext cx="8381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3 quarters + 1 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3623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400" y="457200"/>
            <a:ext cx="859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pennies + 8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809880"/>
            <a:ext cx="937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1 nickel + 1 dime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438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1920" y="990720"/>
            <a:ext cx="8984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2 pennies + 1 nick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69120" y="3886200"/>
            <a:ext cx="923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10 dimes + 40 nickel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33520"/>
            <a:ext cx="88390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4987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00" y="609480"/>
            <a:ext cx="879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quarters + 5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733920"/>
            <a:ext cx="914400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4572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3 + 4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4560" y="1600200"/>
            <a:ext cx="4475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0 + 60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10080" y="160020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676520"/>
            <a:ext cx="4210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3 + 45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760" y="1752480"/>
            <a:ext cx="52707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25 + 356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8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1295280"/>
            <a:ext cx="3705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0 - 5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27944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1 - 3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2193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 - 9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29528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523880"/>
            <a:ext cx="3970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0 - 31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52388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Devin Sullivan</cp:lastModifiedBy>
  <dcterms:modified xsi:type="dcterms:W3CDTF">2008-11-07T19:34:01Z</dcterms:modified>
  <cp:revision>18</cp:revision>
  <dc:subject/>
  <dc:title>Slide 1</dc:title>
</cp:coreProperties>
</file>