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D4D-FE7F-41C7-9867-1BC16653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6F3-F3CD-43A9-BEED-3DF8EE2A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D60-9E82-4DA4-8819-44D5266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F6D-E817-455A-A52A-2BA3D00B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B78-F161-4578-AE2F-E805C15B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BCF-3574-4D25-AA53-6A321E1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A1D-BBFF-497F-8ECB-ECA0484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064-9DA2-45C4-B3B6-E509D22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B07-C680-4360-9017-A215E37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100-6181-49C8-9563-A08F890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D5E-BFC2-4D05-8731-B5316167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BBE-3D09-48D9-81E8-CFEB8105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4F3-143D-4057-87B3-78DA2D6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AB0-275F-44A5-8835-F8EED797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rap-Up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990720"/>
          <a:ext cx="10363320" cy="780732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1800"/>
                <a:gridCol w="20732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di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tra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 Proble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ch is Mo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380880"/>
            <a:ext cx="7086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am wants to buy a toy that cost $5.00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e has a $10 bill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ow much change will he get back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52280" y="1371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dy has $4.00 and she wants to buy 3 pieces of cand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t cost 25 cents each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will she hav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2578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084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my has $6.50 and he want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y a car for $11.75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does Tom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ed to borrow from him mom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4920" y="838080"/>
            <a:ext cx="984564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Alyssa goes to a movie with her frie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ally.  They want to buy popcorn and 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ink each.  Alyssa has $11.00 and Sall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as $4.2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opcorn costs $3.25 and a drink costs $2.50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f they put their money together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ow much change will they receive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7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8360" y="4191120"/>
            <a:ext cx="831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 dimes + 1 nicke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560" y="609480"/>
            <a:ext cx="8847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 dimes + 2 nicke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2096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86104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251240"/>
            <a:ext cx="8381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3 quarters + 1 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362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400" y="457200"/>
            <a:ext cx="85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pennies + 8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809880"/>
            <a:ext cx="937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1 nickel + 1 dime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438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1920" y="990720"/>
            <a:ext cx="8984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2 pennies + 1 nick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69120" y="3886200"/>
            <a:ext cx="923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10 dimes + 40 nickel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33520"/>
            <a:ext cx="88390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4987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609480"/>
            <a:ext cx="879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quarters + 5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33920"/>
            <a:ext cx="914400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4572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3 + 4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4560" y="1600200"/>
            <a:ext cx="4475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0 + 60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10080" y="160020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4210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3 + 45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760" y="1752480"/>
            <a:ext cx="52707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25 + 356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8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295280"/>
            <a:ext cx="3705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0 - 5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27944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1 - 3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193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 - 9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523880"/>
            <a:ext cx="3970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0 - 31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52388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Devin Sullivan</cp:lastModifiedBy>
  <dcterms:modified xsi:type="dcterms:W3CDTF">2008-11-07T19:34:01Z</dcterms:modified>
  <cp:revision>18</cp:revision>
  <dc:subject/>
  <dc:title>Slide 1</dc:title>
</cp:coreProperties>
</file>