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eback.wav" ContentType="audio/x-wav"/>
  <Override PartName="/ppt/media/image15.gif" ContentType="image/gif"/>
  <Override PartName="/ppt/media/ZZZZ.wav" ContentType="audio/x-wav"/>
  <Override PartName="/ppt/media/image12.png" ContentType="image/png"/>
  <Override PartName="/ppt/media/bark.wav" ContentType="audio/x-wav"/>
  <Override PartName="/ppt/media/image14.png" ContentType="image/png"/>
  <Override PartName="/ppt/media/image11.gif" ContentType="image/gif"/>
  <Override PartName="/ppt/media/image10.png" ContentType="image/png"/>
  <Override PartName="/ppt/media/yuck.wav" ContentType="audio/x-wav"/>
  <Override PartName="/ppt/media/image16.png" ContentType="image/png"/>
  <Override PartName="/ppt/media/rattler.wav" ContentType="audio/x-wav"/>
  <Override PartName="/ppt/media/clap.wav" ContentType="audio/x-wav"/>
  <Override PartName="/ppt/media/image21.png" ContentType="image/png"/>
  <Override PartName="/ppt/media/dragnet.wav" ContentType="audio/x-wav"/>
  <Override PartName="/ppt/media/image9.jpeg" ContentType="image/jpeg"/>
  <Override PartName="/ppt/media/Oooooh.wav" ContentType="audio/x-wav"/>
  <Override PartName="/ppt/media/beatlesbeep.wav" ContentType="audio/x-wav"/>
  <Override PartName="/ppt/media/image30.png" ContentType="image/png"/>
  <Override PartName="/ppt/media/image1.png" ContentType="image/png"/>
  <Override PartName="/ppt/media/image13.png" ContentType="image/png"/>
  <Override PartName="/ppt/media/laugh1.wav" ContentType="audio/x-wav"/>
  <Override PartName="/ppt/media/image2.png" ContentType="image/png"/>
  <Override PartName="/ppt/media/papercrumple.wav" ContentType="audio/x-wav"/>
  <Override PartName="/ppt/media/yummy.wav" ContentType="audio/x-wav"/>
  <Override PartName="/ppt/media/image8.png" ContentType="image/png"/>
  <Override PartName="/ppt/media/wham-hommer.wav" ContentType="audio/x-wav"/>
  <Override PartName="/ppt/media/GetGoing.wav" ContentType="audio/x-wav"/>
  <Override PartName="/ppt/media/image20.png" ContentType="image/png"/>
  <Override PartName="/ppt/media/boing1.wav" ContentType="audio/x-wav"/>
  <Override PartName="/ppt/media/whistle-blow.wav" ContentType="audio/x-wav"/>
  <Override PartName="/ppt/media/image25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28.png" ContentType="image/png"/>
  <Override PartName="/ppt/media/image5.png" ContentType="image/png"/>
  <Override PartName="/ppt/media/image26.png" ContentType="image/png"/>
  <Override PartName="/ppt/media/dram-key.wav" ContentType="audio/x-wav"/>
  <Override PartName="/ppt/media/alarmbuzzer.wav" ContentType="audio/x-wav"/>
  <Override PartName="/ppt/media/image3.png" ContentType="image/png"/>
  <Override PartName="/ppt/media/GASP.wav" ContentType="audio/x-wav"/>
  <Override PartName="/ppt/media/ouch1.wav" ContentType="audio/x-wav"/>
  <Override PartName="/ppt/media/image29.png" ContentType="image/png"/>
  <Override PartName="/ppt/media/image18.png" ContentType="image/png"/>
  <Override PartName="/ppt/media/splash3.wav" ContentType="audio/x-wav"/>
  <Override PartName="/ppt/media/quack.wav" ContentType="audio/x-wav"/>
  <Override PartName="/ppt/media/image17.png" ContentType="image/png"/>
  <Override PartName="/ppt/media/image7.png" ContentType="image/png"/>
  <Override PartName="/ppt/media/hmm.wav" ContentType="audio/x-wav"/>
  <Override PartName="/ppt/media/image6.png" ContentType="image/png"/>
  <Override PartName="/ppt/media/delicious.wav" ContentType="audio/x-wav"/>
  <Override PartName="/ppt/media/MEOW.WAV" ContentType="audio/x-wav"/>
  <Override PartName="/ppt/media/image24.jpeg" ContentType="image/jpeg"/>
  <Override PartName="/ppt/media/image22.png" ContentType="image/png"/>
  <Override PartName="/ppt/media/image23.png" ContentType="image/png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7C6-5C1A-4003-A5A8-54E2B1A9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263-9637-49E8-A0B3-41967C0A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641-10F8-4077-B28C-F28799B5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3B8-FA2B-4517-AD63-BDFE750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E30-9CD9-46C8-B8E3-BAA0003E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CB0E-D521-46A2-82B4-51D92C0F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C0E2-CB16-41AE-B91C-40C45D53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EF89-E578-4FD5-A5B5-3FB46B1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CCB1-2531-4842-A31D-559AF731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9844-5E3A-4F5A-B977-4C39086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7AE7-3DDF-4F9F-BC76-2211244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FD6-57FB-4EB5-B1A0-08AB3337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F224-6FC4-4CA6-9F45-CCFE0B2B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FB2-0BC0-4692-AD84-02C182BF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EF9A-175D-44B9-B637-B19C8A9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FB2-92A1-4BA9-9259-60F0B62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0A9-3A51-4546-BAC4-491360EB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EC6-29F7-4E64-8D1F-4E9D15E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445-E13E-49EA-A1A9-AEBDBA8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245-D64E-4418-AF7A-75C7211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244-33E9-48CC-AB5A-95FFE3A2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809-8F48-4DDC-8B04-42500C5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9D3-7349-4855-91C7-038190A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DD4-D147-4D09-863D-C586EE3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D913-6919-46AD-91E3-E67AE7769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017-7865-47E3-86CD-E2A8D2682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eatlesbee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yuck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eback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GetGoin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quack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apercrumpl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ouch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splash3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boing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histle-bl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Oooooh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yumm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eliciou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dram-key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GASP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rattle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rsalphabet.com/wordfamilies.html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ugh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am-ho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agnet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419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10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8748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16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2952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09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b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7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tG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278748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3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46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76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percrump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090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u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02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las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33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52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-b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Dropped Ball - Custom Online Embroidery Design"/>
          <p:cNvPicPr/>
          <p:nvPr/>
        </p:nvPicPr>
        <p:blipFill>
          <a:blip r:embed="rId1"/>
          <a:stretch/>
        </p:blipFill>
        <p:spPr>
          <a:xfrm>
            <a:off x="5410080" y="1828800"/>
            <a:ext cx="2714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oo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14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mm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714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Z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33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licio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124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0481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m-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56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S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333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tt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re Word Famil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124080" y="3505320"/>
            <a:ext cx="2971800" cy="1676160"/>
          </a:xfrm>
          <a:custGeom>
            <a:avLst/>
            <a:gdLst>
              <a:gd name="textAreaLeft" fmla="*/ 233280 w 2971800"/>
              <a:gd name="textAreaRight" fmla="*/ 2738520 w 2971800"/>
              <a:gd name="textAreaTop" fmla="*/ 233280 h 1676160"/>
              <a:gd name="textAreaBottom" fmla="*/ 1442880 h 1676160"/>
            </a:gdLst>
            <a:ahLst/>
            <a:rect l="textAreaLeft" t="textAreaTop" r="textAreaRight" b="textAreaBottom"/>
            <a:pathLst>
              <a:path w="38293" h="21600">
                <a:moveTo>
                  <a:pt x="0" y="0"/>
                </a:moveTo>
                <a:lnTo>
                  <a:pt x="38293" y="0"/>
                </a:lnTo>
                <a:lnTo>
                  <a:pt x="38293" y="21600"/>
                </a:lnTo>
                <a:lnTo>
                  <a:pt x="0" y="21600"/>
                </a:lnTo>
                <a:close/>
              </a:path>
              <a:path fill="lightenLess" w="38293" h="21600">
                <a:moveTo>
                  <a:pt x="0" y="0"/>
                </a:moveTo>
                <a:lnTo>
                  <a:pt x="38293" y="0"/>
                </a:lnTo>
                <a:lnTo>
                  <a:pt x="35286" y="3007"/>
                </a:lnTo>
                <a:lnTo>
                  <a:pt x="3007" y="3007"/>
                </a:lnTo>
                <a:close/>
              </a:path>
              <a:path fill="darken" w="38293" h="21600">
                <a:moveTo>
                  <a:pt x="38293" y="0"/>
                </a:moveTo>
                <a:lnTo>
                  <a:pt x="38293" y="21600"/>
                </a:lnTo>
                <a:lnTo>
                  <a:pt x="35286" y="18593"/>
                </a:lnTo>
                <a:lnTo>
                  <a:pt x="35286" y="3007"/>
                </a:lnTo>
                <a:close/>
              </a:path>
              <a:path fill="darkenLess" w="38293" h="21600">
                <a:moveTo>
                  <a:pt x="38293" y="21600"/>
                </a:moveTo>
                <a:lnTo>
                  <a:pt x="0" y="21600"/>
                </a:lnTo>
                <a:lnTo>
                  <a:pt x="3007" y="18593"/>
                </a:lnTo>
                <a:lnTo>
                  <a:pt x="35286" y="18593"/>
                </a:lnTo>
                <a:close/>
              </a:path>
              <a:path fill="lighten" w="38293" h="21600">
                <a:moveTo>
                  <a:pt x="0" y="21600"/>
                </a:moveTo>
                <a:lnTo>
                  <a:pt x="0" y="0"/>
                </a:lnTo>
                <a:lnTo>
                  <a:pt x="3007" y="3007"/>
                </a:lnTo>
                <a:lnTo>
                  <a:pt x="3007" y="185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2280" y="3897360"/>
            <a:ext cx="919080" cy="797040"/>
          </a:xfrm>
          <a:custGeom>
            <a:avLst/>
            <a:gdLst/>
            <a:ahLst/>
            <a:rect l="l" t="t" r="r" b="b"/>
            <a:pathLst>
              <a:path w="579" h="502">
                <a:moveTo>
                  <a:pt x="526" y="461"/>
                </a:moveTo>
                <a:cubicBezTo>
                  <a:pt x="532" y="420"/>
                  <a:pt x="532" y="392"/>
                  <a:pt x="555" y="359"/>
                </a:cubicBezTo>
                <a:cubicBezTo>
                  <a:pt x="573" y="309"/>
                  <a:pt x="565" y="330"/>
                  <a:pt x="577" y="294"/>
                </a:cubicBezTo>
                <a:cubicBezTo>
                  <a:pt x="575" y="245"/>
                  <a:pt x="579" y="196"/>
                  <a:pt x="570" y="148"/>
                </a:cubicBezTo>
                <a:cubicBezTo>
                  <a:pt x="568" y="139"/>
                  <a:pt x="554" y="139"/>
                  <a:pt x="548" y="133"/>
                </a:cubicBezTo>
                <a:cubicBezTo>
                  <a:pt x="542" y="127"/>
                  <a:pt x="540" y="116"/>
                  <a:pt x="533" y="111"/>
                </a:cubicBezTo>
                <a:cubicBezTo>
                  <a:pt x="527" y="106"/>
                  <a:pt x="518" y="108"/>
                  <a:pt x="511" y="104"/>
                </a:cubicBezTo>
                <a:cubicBezTo>
                  <a:pt x="447" y="69"/>
                  <a:pt x="401" y="19"/>
                  <a:pt x="329" y="2"/>
                </a:cubicBezTo>
                <a:cubicBezTo>
                  <a:pt x="266" y="4"/>
                  <a:pt x="202" y="0"/>
                  <a:pt x="139" y="9"/>
                </a:cubicBezTo>
                <a:cubicBezTo>
                  <a:pt x="115" y="12"/>
                  <a:pt x="118" y="39"/>
                  <a:pt x="110" y="53"/>
                </a:cubicBezTo>
                <a:cubicBezTo>
                  <a:pt x="102" y="68"/>
                  <a:pt x="91" y="82"/>
                  <a:pt x="81" y="97"/>
                </a:cubicBezTo>
                <a:cubicBezTo>
                  <a:pt x="76" y="104"/>
                  <a:pt x="66" y="119"/>
                  <a:pt x="66" y="119"/>
                </a:cubicBezTo>
                <a:cubicBezTo>
                  <a:pt x="50" y="170"/>
                  <a:pt x="57" y="148"/>
                  <a:pt x="45" y="184"/>
                </a:cubicBezTo>
                <a:cubicBezTo>
                  <a:pt x="39" y="201"/>
                  <a:pt x="15" y="228"/>
                  <a:pt x="15" y="228"/>
                </a:cubicBezTo>
                <a:cubicBezTo>
                  <a:pt x="0" y="291"/>
                  <a:pt x="4" y="358"/>
                  <a:pt x="59" y="396"/>
                </a:cubicBezTo>
                <a:cubicBezTo>
                  <a:pt x="131" y="502"/>
                  <a:pt x="369" y="474"/>
                  <a:pt x="453" y="476"/>
                </a:cubicBezTo>
                <a:cubicBezTo>
                  <a:pt x="478" y="484"/>
                  <a:pt x="526" y="500"/>
                  <a:pt x="526" y="4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80280" y="396252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0"/>
                </a:moveTo>
                <a:lnTo>
                  <a:pt x="384" y="432"/>
                </a:lnTo>
                <a:lnTo>
                  <a:pt x="336" y="528"/>
                </a:lnTo>
                <a:lnTo>
                  <a:pt x="4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240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720" y="432"/>
                </a:moveTo>
                <a:lnTo>
                  <a:pt x="1152" y="672"/>
                </a:lnTo>
                <a:lnTo>
                  <a:pt x="1104" y="720"/>
                </a:lnTo>
                <a:lnTo>
                  <a:pt x="0" y="0"/>
                </a:lnTo>
                <a:lnTo>
                  <a:pt x="816" y="4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828800"/>
          <a:ext cx="43578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3578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am-ho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71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2667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333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186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gn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2:36Z</dcterms:created>
  <dc:creator>Connie Campbell</dc:creator>
  <dc:description/>
  <dc:language>en-US</dc:language>
  <cp:lastModifiedBy>Connie Campbell</cp:lastModifiedBy>
  <dcterms:modified xsi:type="dcterms:W3CDTF">2007-05-30T01:41:20Z</dcterms:modified>
  <cp:revision>5</cp:revision>
  <dc:subject/>
  <dc:title>Word Families</dc:title>
</cp:coreProperties>
</file>