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beback.wav" ContentType="audio/x-wav"/>
  <Override PartName="/ppt/media/image15.gif" ContentType="image/gif"/>
  <Override PartName="/ppt/media/ZZZZ.wav" ContentType="audio/x-wav"/>
  <Override PartName="/ppt/media/image12.png" ContentType="image/png"/>
  <Override PartName="/ppt/media/bark.wav" ContentType="audio/x-wav"/>
  <Override PartName="/ppt/media/image14.png" ContentType="image/png"/>
  <Override PartName="/ppt/media/image11.gif" ContentType="image/gif"/>
  <Override PartName="/ppt/media/image10.png" ContentType="image/png"/>
  <Override PartName="/ppt/media/yuck.wav" ContentType="audio/x-wav"/>
  <Override PartName="/ppt/media/image16.png" ContentType="image/png"/>
  <Override PartName="/ppt/media/rattler.wav" ContentType="audio/x-wav"/>
  <Override PartName="/ppt/media/clap.wav" ContentType="audio/x-wav"/>
  <Override PartName="/ppt/media/image21.png" ContentType="image/png"/>
  <Override PartName="/ppt/media/dragnet.wav" ContentType="audio/x-wav"/>
  <Override PartName="/ppt/media/image9.jpeg" ContentType="image/jpeg"/>
  <Override PartName="/ppt/media/Oooooh.wav" ContentType="audio/x-wav"/>
  <Override PartName="/ppt/media/beatlesbeep.wav" ContentType="audio/x-wav"/>
  <Override PartName="/ppt/media/image30.png" ContentType="image/png"/>
  <Override PartName="/ppt/media/image1.png" ContentType="image/png"/>
  <Override PartName="/ppt/media/image13.png" ContentType="image/png"/>
  <Override PartName="/ppt/media/laugh1.wav" ContentType="audio/x-wav"/>
  <Override PartName="/ppt/media/image2.png" ContentType="image/png"/>
  <Override PartName="/ppt/media/papercrumple.wav" ContentType="audio/x-wav"/>
  <Override PartName="/ppt/media/yummy.wav" ContentType="audio/x-wav"/>
  <Override PartName="/ppt/media/image8.png" ContentType="image/png"/>
  <Override PartName="/ppt/media/wham-hommer.wav" ContentType="audio/x-wav"/>
  <Override PartName="/ppt/media/GetGoing.wav" ContentType="audio/x-wav"/>
  <Override PartName="/ppt/media/image20.png" ContentType="image/png"/>
  <Override PartName="/ppt/media/boing1.wav" ContentType="audio/x-wav"/>
  <Override PartName="/ppt/media/whistle-blow.wav" ContentType="audio/x-wav"/>
  <Override PartName="/ppt/media/image25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whoosh.wav" ContentType="audio/x-wav"/>
  <Override PartName="/ppt/media/image28.png" ContentType="image/png"/>
  <Override PartName="/ppt/media/image5.png" ContentType="image/png"/>
  <Override PartName="/ppt/media/image26.png" ContentType="image/png"/>
  <Override PartName="/ppt/media/dram-key.wav" ContentType="audio/x-wav"/>
  <Override PartName="/ppt/media/alarmbuzzer.wav" ContentType="audio/x-wav"/>
  <Override PartName="/ppt/media/image3.png" ContentType="image/png"/>
  <Override PartName="/ppt/media/GASP.wav" ContentType="audio/x-wav"/>
  <Override PartName="/ppt/media/ouch1.wav" ContentType="audio/x-wav"/>
  <Override PartName="/ppt/media/image29.png" ContentType="image/png"/>
  <Override PartName="/ppt/media/image18.png" ContentType="image/png"/>
  <Override PartName="/ppt/media/splash3.wav" ContentType="audio/x-wav"/>
  <Override PartName="/ppt/media/quack.wav" ContentType="audio/x-wav"/>
  <Override PartName="/ppt/media/image17.png" ContentType="image/png"/>
  <Override PartName="/ppt/media/image7.png" ContentType="image/png"/>
  <Override PartName="/ppt/media/hmm.wav" ContentType="audio/x-wav"/>
  <Override PartName="/ppt/media/image6.png" ContentType="image/png"/>
  <Override PartName="/ppt/media/delicious.wav" ContentType="audio/x-wav"/>
  <Override PartName="/ppt/media/MEOW.WAV" ContentType="audio/x-wav"/>
  <Override PartName="/ppt/media/image24.jpeg" ContentType="image/jpeg"/>
  <Override PartName="/ppt/media/image22.png" ContentType="image/png"/>
  <Override PartName="/ppt/media/image23.png" ContentType="image/png"/>
  <Override PartName="/ppt/media/push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48DC-6299-48DF-87CC-029B5B74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6A6E-8F18-484B-9A2F-F0DDF66D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3B49-BD73-4CEB-90BF-A5A420C8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48A-18B4-4E90-9BA4-359F111C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A189-B19F-4819-8D72-4183EAD8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5B61-AFC4-4C09-BA57-86AFA064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92A3-E229-4E01-939A-90DF698D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D795-C0CF-4B6A-9D5A-FE9A0F6E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40DA-8921-4A10-8598-64BA7011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E813-62C1-4B57-A405-59DA7900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4C6B-F0E6-4C3B-BF2E-C70CF636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CE94-8935-4B2A-ADA2-EFBAC5A0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B974-A791-40F2-8F95-C24FE476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324C-2EE6-48EE-934D-CD3369AC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1034-8B07-4AEF-AE79-F2F6DE63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4980-9165-485F-BF22-09151A09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E338-9FA0-4C98-937B-DA9DEC90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5AC2-675B-4066-8FA3-862E4F40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8DC9-8EF0-4971-8E51-7F2789DF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38A-730B-4D95-84DB-E1BABFCD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F03-1573-44DC-8F47-4C525C57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1B75-D656-4400-B014-6F86894A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19BB-21F9-4EDB-81C0-B456698F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0EDC-4DE1-4286-B2B6-D6769ABB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CE7B-621E-48BE-A78C-4E4002A78F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2CEC-06DF-49F2-A1B7-BD35089A8B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beatlesbeep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yuck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beback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GetGoing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quack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MEOW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papercrumple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ouch1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splash3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boing1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whistle-blow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Oooooh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yummy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ZZZZ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delicious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alarmbuzzer.wav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dram-key.wav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GASP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rattler.wav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mrsalphabet.com/wordfamilies.html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laugh1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wham-homm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bark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hmm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dragnet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Arial"/>
              </a:rPr>
              <a:t>Word Families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ie Campb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419720" y="2590920"/>
            <a:ext cx="3419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19920" y="2819520"/>
            <a:ext cx="27432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24080" y="4267080"/>
            <a:ext cx="28101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atles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8120" y="4191120"/>
            <a:ext cx="3047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278748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400800" y="2743200"/>
            <a:ext cx="1162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2787480"/>
            <a:ext cx="1295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l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129528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u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787480"/>
            <a:ext cx="1295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20955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b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2787480"/>
            <a:ext cx="1295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3357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etG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278748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qu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333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24667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273204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267660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apercrump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273204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20908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u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273204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562720" y="2590920"/>
            <a:ext cx="2020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lash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276552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867280" y="2895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276552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29336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ing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276552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6528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istle-bl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273204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d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Dropped Ball - Custom Online Embroidery Design"/>
          <p:cNvPicPr/>
          <p:nvPr/>
        </p:nvPicPr>
        <p:blipFill>
          <a:blip r:embed="rId1"/>
          <a:stretch/>
        </p:blipFill>
        <p:spPr>
          <a:xfrm>
            <a:off x="5410080" y="1828800"/>
            <a:ext cx="27147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oooo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r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867280" y="2743200"/>
            <a:ext cx="251460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umm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171468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ZZ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27338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eliciou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312408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larm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895480" y="4267080"/>
            <a:ext cx="30481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am-ke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812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2562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AS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6232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715000" y="2362320"/>
            <a:ext cx="23335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attl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More Word Famili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1"/>
          </p:cNvPr>
          <p:cNvSpPr/>
          <p:nvPr/>
        </p:nvSpPr>
        <p:spPr>
          <a:xfrm>
            <a:off x="3124080" y="3505320"/>
            <a:ext cx="2971800" cy="1676160"/>
          </a:xfrm>
          <a:custGeom>
            <a:avLst/>
            <a:gdLst>
              <a:gd name="textAreaLeft" fmla="*/ 233280 w 2971800"/>
              <a:gd name="textAreaRight" fmla="*/ 2738520 w 2971800"/>
              <a:gd name="textAreaTop" fmla="*/ 233280 h 1676160"/>
              <a:gd name="textAreaBottom" fmla="*/ 1442880 h 1676160"/>
            </a:gdLst>
            <a:ahLst/>
            <a:rect l="textAreaLeft" t="textAreaTop" r="textAreaRight" b="textAreaBottom"/>
            <a:pathLst>
              <a:path w="38293" h="21600">
                <a:moveTo>
                  <a:pt x="0" y="0"/>
                </a:moveTo>
                <a:lnTo>
                  <a:pt x="38293" y="0"/>
                </a:lnTo>
                <a:lnTo>
                  <a:pt x="38293" y="21600"/>
                </a:lnTo>
                <a:lnTo>
                  <a:pt x="0" y="21600"/>
                </a:lnTo>
                <a:close/>
              </a:path>
              <a:path fill="lightenLess" w="38293" h="21600">
                <a:moveTo>
                  <a:pt x="0" y="0"/>
                </a:moveTo>
                <a:lnTo>
                  <a:pt x="38293" y="0"/>
                </a:lnTo>
                <a:lnTo>
                  <a:pt x="35286" y="3007"/>
                </a:lnTo>
                <a:lnTo>
                  <a:pt x="3007" y="3007"/>
                </a:lnTo>
                <a:close/>
              </a:path>
              <a:path fill="darken" w="38293" h="21600">
                <a:moveTo>
                  <a:pt x="38293" y="0"/>
                </a:moveTo>
                <a:lnTo>
                  <a:pt x="38293" y="21600"/>
                </a:lnTo>
                <a:lnTo>
                  <a:pt x="35286" y="18593"/>
                </a:lnTo>
                <a:lnTo>
                  <a:pt x="35286" y="3007"/>
                </a:lnTo>
                <a:close/>
              </a:path>
              <a:path fill="darkenLess" w="38293" h="21600">
                <a:moveTo>
                  <a:pt x="38293" y="21600"/>
                </a:moveTo>
                <a:lnTo>
                  <a:pt x="0" y="21600"/>
                </a:lnTo>
                <a:lnTo>
                  <a:pt x="3007" y="18593"/>
                </a:lnTo>
                <a:lnTo>
                  <a:pt x="35286" y="18593"/>
                </a:lnTo>
                <a:close/>
              </a:path>
              <a:path fill="lighten" w="38293" h="21600">
                <a:moveTo>
                  <a:pt x="0" y="21600"/>
                </a:moveTo>
                <a:lnTo>
                  <a:pt x="0" y="0"/>
                </a:lnTo>
                <a:lnTo>
                  <a:pt x="3007" y="3007"/>
                </a:lnTo>
                <a:lnTo>
                  <a:pt x="3007" y="1859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r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ug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72280" y="3897360"/>
            <a:ext cx="919080" cy="797040"/>
          </a:xfrm>
          <a:custGeom>
            <a:avLst/>
            <a:gdLst/>
            <a:ahLst/>
            <a:rect l="l" t="t" r="r" b="b"/>
            <a:pathLst>
              <a:path w="579" h="502">
                <a:moveTo>
                  <a:pt x="526" y="461"/>
                </a:moveTo>
                <a:cubicBezTo>
                  <a:pt x="532" y="420"/>
                  <a:pt x="532" y="392"/>
                  <a:pt x="555" y="359"/>
                </a:cubicBezTo>
                <a:cubicBezTo>
                  <a:pt x="573" y="309"/>
                  <a:pt x="565" y="330"/>
                  <a:pt x="577" y="294"/>
                </a:cubicBezTo>
                <a:cubicBezTo>
                  <a:pt x="575" y="245"/>
                  <a:pt x="579" y="196"/>
                  <a:pt x="570" y="148"/>
                </a:cubicBezTo>
                <a:cubicBezTo>
                  <a:pt x="568" y="139"/>
                  <a:pt x="554" y="139"/>
                  <a:pt x="548" y="133"/>
                </a:cubicBezTo>
                <a:cubicBezTo>
                  <a:pt x="542" y="127"/>
                  <a:pt x="540" y="116"/>
                  <a:pt x="533" y="111"/>
                </a:cubicBezTo>
                <a:cubicBezTo>
                  <a:pt x="527" y="106"/>
                  <a:pt x="518" y="108"/>
                  <a:pt x="511" y="104"/>
                </a:cubicBezTo>
                <a:cubicBezTo>
                  <a:pt x="447" y="69"/>
                  <a:pt x="401" y="19"/>
                  <a:pt x="329" y="2"/>
                </a:cubicBezTo>
                <a:cubicBezTo>
                  <a:pt x="266" y="4"/>
                  <a:pt x="202" y="0"/>
                  <a:pt x="139" y="9"/>
                </a:cubicBezTo>
                <a:cubicBezTo>
                  <a:pt x="115" y="12"/>
                  <a:pt x="118" y="39"/>
                  <a:pt x="110" y="53"/>
                </a:cubicBezTo>
                <a:cubicBezTo>
                  <a:pt x="102" y="68"/>
                  <a:pt x="91" y="82"/>
                  <a:pt x="81" y="97"/>
                </a:cubicBezTo>
                <a:cubicBezTo>
                  <a:pt x="76" y="104"/>
                  <a:pt x="66" y="119"/>
                  <a:pt x="66" y="119"/>
                </a:cubicBezTo>
                <a:cubicBezTo>
                  <a:pt x="50" y="170"/>
                  <a:pt x="57" y="148"/>
                  <a:pt x="45" y="184"/>
                </a:cubicBezTo>
                <a:cubicBezTo>
                  <a:pt x="39" y="201"/>
                  <a:pt x="15" y="228"/>
                  <a:pt x="15" y="228"/>
                </a:cubicBezTo>
                <a:cubicBezTo>
                  <a:pt x="0" y="291"/>
                  <a:pt x="4" y="358"/>
                  <a:pt x="59" y="396"/>
                </a:cubicBezTo>
                <a:cubicBezTo>
                  <a:pt x="131" y="502"/>
                  <a:pt x="369" y="474"/>
                  <a:pt x="453" y="476"/>
                </a:cubicBezTo>
                <a:cubicBezTo>
                  <a:pt x="478" y="484"/>
                  <a:pt x="526" y="500"/>
                  <a:pt x="526" y="4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80280" y="3962520"/>
            <a:ext cx="609480" cy="83808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0" y="0"/>
                </a:moveTo>
                <a:lnTo>
                  <a:pt x="384" y="432"/>
                </a:lnTo>
                <a:lnTo>
                  <a:pt x="336" y="528"/>
                </a:lnTo>
                <a:lnTo>
                  <a:pt x="48" y="48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3124080"/>
            <a:ext cx="1828800" cy="1143000"/>
          </a:xfrm>
          <a:custGeom>
            <a:avLst/>
            <a:gdLst/>
            <a:ahLst/>
            <a:rect l="l" t="t" r="r" b="b"/>
            <a:pathLst>
              <a:path w="1152" h="720">
                <a:moveTo>
                  <a:pt x="720" y="432"/>
                </a:moveTo>
                <a:lnTo>
                  <a:pt x="1152" y="672"/>
                </a:lnTo>
                <a:lnTo>
                  <a:pt x="1104" y="720"/>
                </a:lnTo>
                <a:lnTo>
                  <a:pt x="0" y="0"/>
                </a:lnTo>
                <a:lnTo>
                  <a:pt x="816" y="4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114800" y="1828800"/>
          <a:ext cx="4357800" cy="33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435780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am-ho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37176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266724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ar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233352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m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1860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agn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8T12:32:36Z</dcterms:created>
  <dc:creator>Connie Campbell</dc:creator>
  <dc:description/>
  <dc:language>en-US</dc:language>
  <cp:lastModifiedBy>Connie Campbell</cp:lastModifiedBy>
  <dcterms:modified xsi:type="dcterms:W3CDTF">2007-05-30T01:41:20Z</dcterms:modified>
  <cp:revision>5</cp:revision>
  <dc:subject/>
  <dc:title>Word Families</dc:title>
</cp:coreProperties>
</file>